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5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6.jpeg" ContentType="image/jpeg"/>
  <Override PartName="/ppt/media/image21.wmf" ContentType="image/x-wmf"/>
  <Override PartName="/ppt/media/match_strike.wav" ContentType="audio/x-wav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28.png" ContentType="image/png"/>
  <Override PartName="/ppt/media/Pig.wav" ContentType="audio/x-wav"/>
  <Override PartName="/ppt/media/image13.wmf" ContentType="image/x-wmf"/>
  <Override PartName="/ppt/media/image29.png" ContentType="image/png"/>
  <Override PartName="/ppt/media/image14.wmf" ContentType="image/x-wmf"/>
  <Override PartName="/ppt/media/image30.jpeg" ContentType="image/jpeg"/>
  <Override PartName="/ppt/media/image18.jpeg" ContentType="image/jpeg"/>
  <Override PartName="/ppt/media/image15.png" ContentType="image/png"/>
  <Override PartName="/ppt/media/image24.jpeg" ContentType="image/jpeg"/>
  <Override PartName="/ppt/media/image4.wmf" ContentType="image/x-wmf"/>
  <Override PartName="/ppt/media/image3.wmf" ContentType="image/x-wmf"/>
  <Override PartName="/ppt/media/image26.wmf" ContentType="image/x-wmf"/>
  <Override PartName="/ppt/media/image1.png" ContentType="image/png"/>
  <Override PartName="/ppt/media/image16.wmf" ContentType="image/x-wmf"/>
  <Override PartName="/ppt/media/image17.png" ContentType="image/png"/>
  <Override PartName="/ppt/media/image19.jpeg" ContentType="image/jpeg"/>
  <Override PartName="/ppt/media/image23.jpeg" ContentType="image/jpeg"/>
  <Override PartName="/ppt/media/image12.png" ContentType="image/png"/>
  <Override PartName="/ppt/media/image20.jpeg" ContentType="image/jpeg"/>
  <Override PartName="/ppt/media/image2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2EF4-101B-40A1-A1E1-1A8471698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at’s how life subsisted for a billion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a certain bacteria ”learned” how to metabolize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which was previously a poi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w pyruvate is not the end of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256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ate still has a lot of energy in it that has not been captu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256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still has 3 carbons bonded together!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still energy stored in those bond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still be oxidized fur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y does glycolysis still take pl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the carbon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tic acid is not a dead end like ethanol. Once you have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gain, lactate is converted back to pyruvate by the liver and fed to the Kreb’s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es it make sense that this happens in the cytoso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evolved fir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s of glycolysis are very similar among all organisms. The genes that code for them are highly con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 good measure for evolutionary studies. Compare eukaryotes, bacteria &amp; archaea using glycolysis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= 3.5 b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in cytosol = doesn’t require a membrane-bound organel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.7 b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tic bacteria / proto-blue-gre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karyotes = 1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-bound organell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es that all life/organisms sh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ATP used is like a match to light a fire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on energy /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abilizes glucose enough to split it in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is a stable molecule it needs an activation energ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reak it a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rylate it = Pi comes from AT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NADH &amp; put it in the bank for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33C25-0754-4DDB-88D9-B32B69E36E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DF471-047C-4FCC-9472-5A947330C0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3AD0E-972D-4ABD-806C-8E44F3572D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17A19-497D-4970-8365-30C3F2A4C3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CEF5E-FCED-4865-A213-639879A870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CD640-F78C-41BF-BCA6-AC8EF60B56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0E25C-76D6-481D-94FD-E79C5E6175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CEA7C-C266-457F-B8E6-6ABA85C9A6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D33D8-1B71-4ECC-B83E-89E1B45D15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16AE2-D503-44BA-8D69-9E6D9E2319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3AB36-5DBC-4E01-A620-585FBD4E0A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5A645-BCF4-47A5-87FA-2EFEAED1A0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DDAB-6502-44EE-BCA9-A5E0DBE36060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49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3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2"/>
          </p:nvPr>
        </p:nvSpPr>
        <p:spPr>
          <a:xfrm>
            <a:off x="731484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2007-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1.wmf"/><Relationship Id="rId3" Type="http://schemas.openxmlformats.org/officeDocument/2006/relationships/audio" Target="../media/match_strike.wav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0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audio" Target="../media/match_strike.wav"/><Relationship Id="rId4" Type="http://schemas.openxmlformats.org/officeDocument/2006/relationships/audio" Target="../media/Pig.wav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7.png"/><Relationship Id="rId6" Type="http://schemas.openxmlformats.org/officeDocument/2006/relationships/audio" Target="../media/match_strike.wav"/><Relationship Id="rId7" Type="http://schemas.openxmlformats.org/officeDocument/2006/relationships/audio" Target="../media/Pig.wav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wmf"/><Relationship Id="rId3" Type="http://schemas.openxmlformats.org/officeDocument/2006/relationships/image" Target="../media/image20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98760" y="2479680"/>
            <a:ext cx="5595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60440">
              <a:lnSpc>
                <a:spcPct val="100000"/>
              </a:lnSpc>
              <a:tabLst>
                <a:tab algn="l" pos="0"/>
                <a:tab algn="l" pos="1373040"/>
                <a:tab algn="l" pos="182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ellular Respiration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Arial"/>
              </a:rPr>
              <a:t>Stage 1:</a:t>
            </a:r>
            <a:br>
              <a:rPr sz="3600"/>
            </a:br>
            <a:r>
              <a:rPr b="1" lang="en-US" sz="36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lycolysi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0" t="0" r="41629" b="0"/>
          <a:stretch/>
        </p:blipFill>
        <p:spPr>
          <a:xfrm rot="20335800">
            <a:off x="6684840" y="29340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110360" y="4168800"/>
            <a:ext cx="1844640" cy="2689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11240" y="3149640"/>
            <a:ext cx="1839960" cy="3524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114480" y="341280"/>
            <a:ext cx="1790640" cy="1744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1801800" y="1200240"/>
            <a:ext cx="2087640" cy="1403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accounting of glycolysi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4572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Net gain =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 ATP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ome energy investment (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2 ATP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mall energy return (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+4 ATP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1 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6C sugar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2 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3C sugar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2539440" y="1523160"/>
            <a:ext cx="3077280" cy="991440"/>
            <a:chOff x="2539440" y="1523160"/>
            <a:chExt cx="3077280" cy="991440"/>
          </a:xfrm>
        </p:grpSpPr>
        <p:sp>
          <p:nvSpPr>
            <p:cNvPr id="431" name=""/>
            <p:cNvSpPr/>
            <p:nvPr/>
          </p:nvSpPr>
          <p:spPr>
            <a:xfrm>
              <a:off x="3581280" y="1905120"/>
              <a:ext cx="914400" cy="60948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539440" y="1523160"/>
              <a:ext cx="1261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AT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12800" y="1523160"/>
              <a:ext cx="1303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AD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518920" y="3200040"/>
            <a:ext cx="1999080" cy="1067760"/>
            <a:chOff x="2518920" y="3200040"/>
            <a:chExt cx="1999080" cy="1067760"/>
          </a:xfrm>
        </p:grpSpPr>
        <p:sp>
          <p:nvSpPr>
            <p:cNvPr id="435" name=""/>
            <p:cNvSpPr/>
            <p:nvPr/>
          </p:nvSpPr>
          <p:spPr>
            <a:xfrm flipV="1">
              <a:off x="3581280" y="3199680"/>
              <a:ext cx="914400" cy="60948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518920" y="3717000"/>
              <a:ext cx="1303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AD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34040" y="3717720"/>
              <a:ext cx="1839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1697040" y="2650680"/>
            <a:ext cx="5035680" cy="48996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lucose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pyruvate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259240" y="3069720"/>
            <a:ext cx="506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33720" y="3051000"/>
            <a:ext cx="609480" cy="527400"/>
          </a:xfrm>
          <a:prstGeom prst="hexagon">
            <a:avLst>
              <a:gd name="adj" fmla="val 28891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6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715000" y="3051000"/>
            <a:ext cx="609480" cy="527400"/>
          </a:xfrm>
          <a:prstGeom prst="hexagon">
            <a:avLst>
              <a:gd name="adj" fmla="val 28891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3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7731000" y="544824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6427800" y="3691080"/>
            <a:ext cx="1957320" cy="1287360"/>
          </a:xfrm>
          <a:prstGeom prst="wedgeEllipseCallout">
            <a:avLst>
              <a:gd name="adj1" fmla="val 31509"/>
              <a:gd name="adj2" fmla="val 94268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ll that work!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nd that’s all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 get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4294080" y="3503520"/>
            <a:ext cx="1505160" cy="986040"/>
            <a:chOff x="4294080" y="3503520"/>
            <a:chExt cx="1505160" cy="986040"/>
          </a:xfrm>
        </p:grpSpPr>
        <p:sp>
          <p:nvSpPr>
            <p:cNvPr id="445" name=""/>
            <p:cNvSpPr/>
            <p:nvPr/>
          </p:nvSpPr>
          <p:spPr>
            <a:xfrm>
              <a:off x="4294080" y="3503520"/>
              <a:ext cx="1505160" cy="98604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314600" y="3706200"/>
              <a:ext cx="39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3817800" y="2073240"/>
            <a:ext cx="827280" cy="7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atch_stri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9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s that all there is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01000" cy="28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ot a lot of energy…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or 1 billon years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his is how life on Earth survive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o 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=  slow growth, slow reproductio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nly harvest 3.5% of energy stored in glucos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-228600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more carbons to strip off = more energy to harvest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527040" y="4267080"/>
            <a:ext cx="2073240" cy="25909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773892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5398920" y="5297400"/>
            <a:ext cx="1957680" cy="1287720"/>
          </a:xfrm>
          <a:prstGeom prst="wedgeEllipseCallout">
            <a:avLst>
              <a:gd name="adj1" fmla="val 79601"/>
              <a:gd name="adj2" fmla="val 1666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Hard way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o mak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 living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619000" y="4230000"/>
            <a:ext cx="502200" cy="508680"/>
            <a:chOff x="2619000" y="4230000"/>
            <a:chExt cx="502200" cy="508680"/>
          </a:xfrm>
        </p:grpSpPr>
        <p:grpSp>
          <p:nvGrpSpPr>
            <p:cNvPr id="454" name=""/>
            <p:cNvGrpSpPr/>
            <p:nvPr/>
          </p:nvGrpSpPr>
          <p:grpSpPr>
            <a:xfrm>
              <a:off x="2619000" y="4230000"/>
              <a:ext cx="502200" cy="508680"/>
              <a:chOff x="2619000" y="4230000"/>
              <a:chExt cx="502200" cy="508680"/>
            </a:xfrm>
          </p:grpSpPr>
          <p:sp>
            <p:nvSpPr>
              <p:cNvPr id="455" name=""/>
              <p:cNvSpPr/>
              <p:nvPr/>
            </p:nvSpPr>
            <p:spPr>
              <a:xfrm>
                <a:off x="2619360" y="4246560"/>
                <a:ext cx="492120" cy="492120"/>
              </a:xfrm>
              <a:prstGeom prst="ellipse">
                <a:avLst/>
              </a:prstGeom>
              <a:solidFill>
                <a:srgbClr val="ffea18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619000" y="4230000"/>
                <a:ext cx="502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f116a"/>
                    </a:solidFill>
                    <a:latin typeface="Arial"/>
                  </a:rPr>
                  <a:t>O</a:t>
                </a:r>
                <a:r>
                  <a:rPr b="1" lang="en-US" sz="2300" spc="-1" strike="noStrike" baseline="-25000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23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 flipH="1">
              <a:off x="2706120" y="4349880"/>
              <a:ext cx="349560" cy="325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7560" y="5600160"/>
            <a:ext cx="502200" cy="508680"/>
            <a:chOff x="7560" y="5600160"/>
            <a:chExt cx="502200" cy="508680"/>
          </a:xfrm>
        </p:grpSpPr>
        <p:grpSp>
          <p:nvGrpSpPr>
            <p:cNvPr id="459" name=""/>
            <p:cNvGrpSpPr/>
            <p:nvPr/>
          </p:nvGrpSpPr>
          <p:grpSpPr>
            <a:xfrm>
              <a:off x="7560" y="5600160"/>
              <a:ext cx="502200" cy="508680"/>
              <a:chOff x="7560" y="5600160"/>
              <a:chExt cx="502200" cy="508680"/>
            </a:xfrm>
          </p:grpSpPr>
          <p:sp>
            <p:nvSpPr>
              <p:cNvPr id="460" name=""/>
              <p:cNvSpPr/>
              <p:nvPr/>
            </p:nvSpPr>
            <p:spPr>
              <a:xfrm>
                <a:off x="7920" y="5616720"/>
                <a:ext cx="492120" cy="492120"/>
              </a:xfrm>
              <a:prstGeom prst="ellipse">
                <a:avLst/>
              </a:prstGeom>
              <a:solidFill>
                <a:srgbClr val="ffea18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560" y="5600160"/>
                <a:ext cx="502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f116a"/>
                    </a:solidFill>
                    <a:latin typeface="Arial"/>
                  </a:rPr>
                  <a:t>O</a:t>
                </a:r>
                <a:r>
                  <a:rPr b="1" lang="en-US" sz="2300" spc="-1" strike="noStrike" baseline="-25000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23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 flipH="1">
              <a:off x="94680" y="5720040"/>
              <a:ext cx="349560" cy="325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294840" y="4371120"/>
            <a:ext cx="502200" cy="508680"/>
            <a:chOff x="294840" y="4371120"/>
            <a:chExt cx="502200" cy="508680"/>
          </a:xfrm>
        </p:grpSpPr>
        <p:grpSp>
          <p:nvGrpSpPr>
            <p:cNvPr id="464" name=""/>
            <p:cNvGrpSpPr/>
            <p:nvPr/>
          </p:nvGrpSpPr>
          <p:grpSpPr>
            <a:xfrm>
              <a:off x="294840" y="4371120"/>
              <a:ext cx="502200" cy="508680"/>
              <a:chOff x="294840" y="4371120"/>
              <a:chExt cx="502200" cy="508680"/>
            </a:xfrm>
          </p:grpSpPr>
          <p:sp>
            <p:nvSpPr>
              <p:cNvPr id="465" name=""/>
              <p:cNvSpPr/>
              <p:nvPr/>
            </p:nvSpPr>
            <p:spPr>
              <a:xfrm>
                <a:off x="295200" y="4387680"/>
                <a:ext cx="492120" cy="492120"/>
              </a:xfrm>
              <a:prstGeom prst="ellipse">
                <a:avLst/>
              </a:prstGeom>
              <a:solidFill>
                <a:srgbClr val="ffea18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94840" y="4371120"/>
                <a:ext cx="502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f116a"/>
                    </a:solidFill>
                    <a:latin typeface="Arial"/>
                  </a:rPr>
                  <a:t>O</a:t>
                </a:r>
                <a:r>
                  <a:rPr b="1" lang="en-US" sz="2300" spc="-1" strike="noStrike" baseline="-25000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23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 flipH="1">
              <a:off x="381960" y="4491000"/>
              <a:ext cx="349560" cy="325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2730240" y="5127120"/>
            <a:ext cx="502200" cy="508680"/>
            <a:chOff x="2730240" y="5127120"/>
            <a:chExt cx="502200" cy="508680"/>
          </a:xfrm>
        </p:grpSpPr>
        <p:grpSp>
          <p:nvGrpSpPr>
            <p:cNvPr id="469" name=""/>
            <p:cNvGrpSpPr/>
            <p:nvPr/>
          </p:nvGrpSpPr>
          <p:grpSpPr>
            <a:xfrm>
              <a:off x="2730240" y="5127120"/>
              <a:ext cx="502200" cy="508680"/>
              <a:chOff x="2730240" y="5127120"/>
              <a:chExt cx="502200" cy="508680"/>
            </a:xfrm>
          </p:grpSpPr>
          <p:sp>
            <p:nvSpPr>
              <p:cNvPr id="470" name=""/>
              <p:cNvSpPr/>
              <p:nvPr/>
            </p:nvSpPr>
            <p:spPr>
              <a:xfrm>
                <a:off x="2730600" y="5143680"/>
                <a:ext cx="492120" cy="492120"/>
              </a:xfrm>
              <a:prstGeom prst="ellipse">
                <a:avLst/>
              </a:prstGeom>
              <a:solidFill>
                <a:srgbClr val="ffea18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730240" y="5127120"/>
                <a:ext cx="502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f116a"/>
                    </a:solidFill>
                    <a:latin typeface="Arial"/>
                  </a:rPr>
                  <a:t>O</a:t>
                </a:r>
                <a:r>
                  <a:rPr b="1" lang="en-US" sz="2300" spc="-1" strike="noStrike" baseline="-25000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23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72" name=""/>
            <p:cNvSpPr/>
            <p:nvPr/>
          </p:nvSpPr>
          <p:spPr>
            <a:xfrm flipH="1">
              <a:off x="2817360" y="5247000"/>
              <a:ext cx="349560" cy="325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2404800" y="6190560"/>
            <a:ext cx="502200" cy="508680"/>
            <a:chOff x="2404800" y="6190560"/>
            <a:chExt cx="502200" cy="508680"/>
          </a:xfrm>
        </p:grpSpPr>
        <p:grpSp>
          <p:nvGrpSpPr>
            <p:cNvPr id="474" name=""/>
            <p:cNvGrpSpPr/>
            <p:nvPr/>
          </p:nvGrpSpPr>
          <p:grpSpPr>
            <a:xfrm>
              <a:off x="2404800" y="6190560"/>
              <a:ext cx="502200" cy="508680"/>
              <a:chOff x="2404800" y="6190560"/>
              <a:chExt cx="502200" cy="508680"/>
            </a:xfrm>
          </p:grpSpPr>
          <p:sp>
            <p:nvSpPr>
              <p:cNvPr id="475" name=""/>
              <p:cNvSpPr/>
              <p:nvPr/>
            </p:nvSpPr>
            <p:spPr>
              <a:xfrm>
                <a:off x="2405160" y="6207120"/>
                <a:ext cx="492120" cy="492120"/>
              </a:xfrm>
              <a:prstGeom prst="ellipse">
                <a:avLst/>
              </a:prstGeom>
              <a:solidFill>
                <a:srgbClr val="ffea18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404800" y="6190560"/>
                <a:ext cx="502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f116a"/>
                    </a:solidFill>
                    <a:latin typeface="Arial"/>
                  </a:rPr>
                  <a:t>O</a:t>
                </a:r>
                <a:r>
                  <a:rPr b="1" lang="en-US" sz="2300" spc="-1" strike="noStrike" baseline="-25000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23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 flipH="1">
              <a:off x="2491920" y="6310440"/>
              <a:ext cx="349560" cy="325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3811680" y="4225680"/>
            <a:ext cx="4846680" cy="48996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lucose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pyruvate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63920" y="4653000"/>
            <a:ext cx="609840" cy="527040"/>
          </a:xfrm>
          <a:prstGeom prst="hexagon">
            <a:avLst>
              <a:gd name="adj" fmla="val 28928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6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203600" y="4651200"/>
            <a:ext cx="1065600" cy="527400"/>
            <a:chOff x="7203600" y="4651200"/>
            <a:chExt cx="1065600" cy="527400"/>
          </a:xfrm>
        </p:grpSpPr>
        <p:sp>
          <p:nvSpPr>
            <p:cNvPr id="481" name=""/>
            <p:cNvSpPr/>
            <p:nvPr/>
          </p:nvSpPr>
          <p:spPr>
            <a:xfrm>
              <a:off x="7203600" y="4669920"/>
              <a:ext cx="50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660066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659720" y="4651200"/>
              <a:ext cx="609480" cy="527400"/>
            </a:xfrm>
            <a:prstGeom prst="hexagon">
              <a:avLst>
                <a:gd name="adj" fmla="val 2889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3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000"/>
                            </p:stCondLst>
                            <p:childTnLst>
                              <p:par>
                                <p:cTn id="6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500"/>
                            </p:stCondLst>
                            <p:childTnLst>
                              <p:par>
                                <p:cTn id="6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0" y="2459160"/>
            <a:ext cx="9142560" cy="107352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lycolysi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3000"/>
                </a:solidFill>
                <a:latin typeface="Arial"/>
              </a:rPr>
              <a:t>glucos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2ADP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2P</a:t>
            </a:r>
            <a:r>
              <a:rPr b="1" lang="en-US" sz="2400" spc="-1" strike="noStrike" baseline="-25000">
                <a:solidFill>
                  <a:srgbClr val="66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2 NAD</a:t>
            </a:r>
            <a:r>
              <a:rPr b="1" lang="en-US" sz="2400" spc="-1" strike="noStrike" baseline="30000">
                <a:solidFill>
                  <a:srgbClr val="660066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13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13000"/>
                </a:solidFill>
                <a:latin typeface="Arial"/>
              </a:rPr>
              <a:t>pyruvat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2ATP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2NAD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52280" y="6324480"/>
            <a:ext cx="17528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e can’t stop there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!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18600" y="4204800"/>
            <a:ext cx="63039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oing to run out of NAD</a:t>
            </a:r>
            <a:r>
              <a:rPr b="1" lang="en-US" sz="30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without regenerating NAD+,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ergy production would stop</a:t>
            </a:r>
            <a:r>
              <a:rPr b="1" i="1" lang="en-US" sz="2800" spc="-1" strike="noStrike">
                <a:solidFill>
                  <a:srgbClr val="40458c"/>
                </a:solidFill>
                <a:latin typeface="Arial"/>
              </a:rPr>
              <a:t>!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nother molecule must accept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 from NAD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7083360" y="4730760"/>
            <a:ext cx="2039760" cy="2090520"/>
            <a:chOff x="7083360" y="4730760"/>
            <a:chExt cx="2039760" cy="2090520"/>
          </a:xfrm>
        </p:grpSpPr>
        <p:pic>
          <p:nvPicPr>
            <p:cNvPr id="488" name="" descr=""/>
            <p:cNvPicPr/>
            <p:nvPr/>
          </p:nvPicPr>
          <p:blipFill>
            <a:blip r:embed="rId1"/>
            <a:stretch/>
          </p:blipFill>
          <p:spPr>
            <a:xfrm>
              <a:off x="7083360" y="4730760"/>
              <a:ext cx="2039760" cy="20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7085160" y="5025960"/>
              <a:ext cx="1992240" cy="1338840"/>
            </a:xfrm>
            <a:prstGeom prst="ellipse">
              <a:avLst/>
            </a:prstGeom>
            <a:solidFill>
              <a:srgbClr val="cfdb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cycle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4059360" y="2548080"/>
            <a:ext cx="4508280" cy="473040"/>
          </a:xfrm>
          <a:custGeom>
            <a:avLst/>
            <a:gdLst/>
            <a:ahLst/>
            <a:rect l="l" t="t" r="r" b="b"/>
            <a:pathLst>
              <a:path w="2840" h="166">
                <a:moveTo>
                  <a:pt x="0" y="166"/>
                </a:moveTo>
                <a:lnTo>
                  <a:pt x="0" y="0"/>
                </a:lnTo>
                <a:lnTo>
                  <a:pt x="2840" y="0"/>
                </a:lnTo>
                <a:lnTo>
                  <a:pt x="2840" y="143"/>
                </a:lnTo>
              </a:path>
            </a:pathLst>
          </a:custGeom>
          <a:noFill/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 flipV="1">
            <a:off x="4058640" y="3452760"/>
            <a:ext cx="4508280" cy="473040"/>
          </a:xfrm>
          <a:custGeom>
            <a:avLst/>
            <a:gdLst/>
            <a:ahLst/>
            <a:rect l="l" t="t" r="r" b="b"/>
            <a:pathLst>
              <a:path w="2840" h="166">
                <a:moveTo>
                  <a:pt x="0" y="166"/>
                </a:moveTo>
                <a:lnTo>
                  <a:pt x="0" y="0"/>
                </a:lnTo>
                <a:lnTo>
                  <a:pt x="2840" y="0"/>
                </a:lnTo>
                <a:lnTo>
                  <a:pt x="2840" y="143"/>
                </a:lnTo>
              </a:path>
            </a:pathLst>
          </a:custGeom>
          <a:noFill/>
          <a:ln w="5724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5167440" y="816120"/>
            <a:ext cx="3867120" cy="1387440"/>
            <a:chOff x="5167440" y="816120"/>
            <a:chExt cx="3867120" cy="1387440"/>
          </a:xfrm>
        </p:grpSpPr>
        <p:grpSp>
          <p:nvGrpSpPr>
            <p:cNvPr id="493" name=""/>
            <p:cNvGrpSpPr/>
            <p:nvPr/>
          </p:nvGrpSpPr>
          <p:grpSpPr>
            <a:xfrm>
              <a:off x="5167440" y="816120"/>
              <a:ext cx="3867120" cy="1387440"/>
              <a:chOff x="5167440" y="816120"/>
              <a:chExt cx="3867120" cy="1387440"/>
            </a:xfrm>
          </p:grpSpPr>
          <p:pic>
            <p:nvPicPr>
              <p:cNvPr id="494" name="" descr=""/>
              <p:cNvPicPr/>
              <p:nvPr/>
            </p:nvPicPr>
            <p:blipFill>
              <a:blip r:embed="rId2"/>
              <a:srcRect l="27001" t="67504" r="27001" b="10504"/>
              <a:stretch/>
            </p:blipFill>
            <p:spPr>
              <a:xfrm>
                <a:off x="5167440" y="817920"/>
                <a:ext cx="3867120" cy="138564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</p:pic>
          <p:sp>
            <p:nvSpPr>
              <p:cNvPr id="495" name=""/>
              <p:cNvSpPr/>
              <p:nvPr/>
            </p:nvSpPr>
            <p:spPr>
              <a:xfrm>
                <a:off x="7410240" y="1346400"/>
                <a:ext cx="1274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353560" y="13464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658280" y="892440"/>
                <a:ext cx="406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G3P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023160" y="1916280"/>
                <a:ext cx="595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,3-BPG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365960" y="1916280"/>
                <a:ext cx="952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,3-BPG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8350200" y="1656000"/>
                <a:ext cx="43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376120" y="13464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445000" y="1648080"/>
                <a:ext cx="43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668640" y="1360800"/>
                <a:ext cx="1274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170320" y="816120"/>
                <a:ext cx="2330640" cy="244440"/>
              </a:xfrm>
              <a:prstGeom prst="rect">
                <a:avLst/>
              </a:prstGeom>
              <a:solidFill>
                <a:srgbClr val="dff3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48360" y="1360800"/>
                <a:ext cx="335160" cy="244440"/>
              </a:xfrm>
              <a:prstGeom prst="rect">
                <a:avLst/>
              </a:prstGeom>
              <a:solidFill>
                <a:srgbClr val="dff3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357160" y="857160"/>
              <a:ext cx="75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HAP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2276640" y="1655640"/>
            <a:ext cx="6800760" cy="510084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3238920" y="3149640"/>
            <a:ext cx="65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89200" y="1998720"/>
            <a:ext cx="1187640" cy="27468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pyruvat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612240" y="385776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etyl-Co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851800" y="4565520"/>
            <a:ext cx="72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tat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35240" y="5835600"/>
            <a:ext cx="81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382200" y="248436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04960" y="394344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307480" y="3203640"/>
            <a:ext cx="65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090920" y="450360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160040" y="3805200"/>
            <a:ext cx="65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574480" y="2611440"/>
            <a:ext cx="41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255080" y="3274920"/>
            <a:ext cx="144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etaldehyd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32520" y="2494080"/>
            <a:ext cx="4165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877200" y="5742000"/>
            <a:ext cx="64692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reb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502000" y="3219480"/>
            <a:ext cx="2520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663880" y="4967280"/>
            <a:ext cx="125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lactic acid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240360" y="1257480"/>
            <a:ext cx="2346120" cy="57960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oxyge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aerobic respir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485040" y="1257480"/>
            <a:ext cx="2643120" cy="85392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out oxyge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anaerobic respir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f116a"/>
                </a:solidFill>
                <a:uFillTx/>
                <a:latin typeface="Arial"/>
              </a:rPr>
              <a:t>fermenta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19200" y="677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How is NADH recycled to NAD</a:t>
            </a:r>
            <a:r>
              <a:rPr b="1" lang="en-US" sz="3200" spc="-1" strike="noStrike" baseline="30000">
                <a:solidFill>
                  <a:srgbClr val="660066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000" y="1317600"/>
            <a:ext cx="340524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Another molecule must accept H from NADH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128520" y="3094200"/>
            <a:ext cx="2039760" cy="2090160"/>
            <a:chOff x="128520" y="3094200"/>
            <a:chExt cx="2039760" cy="2090160"/>
          </a:xfrm>
        </p:grpSpPr>
        <p:pic>
          <p:nvPicPr>
            <p:cNvPr id="529" name="" descr=""/>
            <p:cNvPicPr/>
            <p:nvPr/>
          </p:nvPicPr>
          <p:blipFill>
            <a:blip r:embed="rId2"/>
            <a:stretch/>
          </p:blipFill>
          <p:spPr>
            <a:xfrm>
              <a:off x="128520" y="3094200"/>
              <a:ext cx="2039760" cy="209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"/>
            <p:cNvSpPr/>
            <p:nvPr/>
          </p:nvSpPr>
          <p:spPr>
            <a:xfrm>
              <a:off x="130320" y="3389400"/>
              <a:ext cx="1992240" cy="1338840"/>
            </a:xfrm>
            <a:prstGeom prst="ellipse">
              <a:avLst/>
            </a:prstGeom>
            <a:solidFill>
              <a:srgbClr val="cfdb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cycle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2276640" y="2351160"/>
            <a:ext cx="2900160" cy="4430520"/>
          </a:xfrm>
          <a:custGeom>
            <a:avLst/>
            <a:gdLst>
              <a:gd name="textAreaLeft" fmla="*/ 141480 w 2900160"/>
              <a:gd name="textAreaRight" fmla="*/ 2758680 w 2900160"/>
              <a:gd name="textAreaTop" fmla="*/ 141480 h 4430520"/>
              <a:gd name="textAreaBottom" fmla="*/ 4289040 h 4430520"/>
            </a:gdLst>
            <a:ahLst/>
            <a:rect l="textAreaLeft" t="textAreaTop" r="textAreaRight" b="textAreaBottom"/>
            <a:pathLst>
              <a:path w="21600" h="32996">
                <a:moveTo>
                  <a:pt x="3600" y="0"/>
                </a:moveTo>
                <a:arcTo wR="3600" hR="3600" stAng="16200000" swAng="-5400000"/>
                <a:lnTo>
                  <a:pt x="0" y="29396"/>
                </a:lnTo>
                <a:arcTo wR="3600" hR="3600" stAng="10800000" swAng="-5400000"/>
                <a:lnTo>
                  <a:pt x="18000" y="329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005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235480" y="2347920"/>
            <a:ext cx="3908520" cy="4433760"/>
          </a:xfrm>
          <a:custGeom>
            <a:avLst/>
            <a:gdLst>
              <a:gd name="textAreaLeft" fmla="*/ 190800 w 3908520"/>
              <a:gd name="textAreaRight" fmla="*/ 3717720 w 3908520"/>
              <a:gd name="textAreaTop" fmla="*/ 190800 h 4433760"/>
              <a:gd name="textAreaBottom" fmla="*/ 4242960 h 4433760"/>
            </a:gdLst>
            <a:ahLst/>
            <a:rect l="textAreaLeft" t="textAreaTop" r="textAreaRight" b="textAreaBottom"/>
            <a:pathLst>
              <a:path w="21600" h="24502">
                <a:moveTo>
                  <a:pt x="3600" y="0"/>
                </a:moveTo>
                <a:arcTo wR="3600" hR="3600" stAng="16200000" swAng="-5400000"/>
                <a:lnTo>
                  <a:pt x="0" y="20902"/>
                </a:lnTo>
                <a:arcTo wR="3600" hR="3600" stAng="10800000" swAng="-5400000"/>
                <a:lnTo>
                  <a:pt x="18000" y="245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2440" y="5470920"/>
            <a:ext cx="2737080" cy="1281960"/>
          </a:xfrm>
          <a:prstGeom prst="rect">
            <a:avLst/>
          </a:prstGeom>
          <a:solidFill>
            <a:srgbClr val="ffcc1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which path you use depends on who you are…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500"/>
                            </p:stCondLst>
                            <p:childTnLst>
                              <p:par>
                                <p:cTn id="8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228600" y="6324480"/>
            <a:ext cx="8458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521000" y="4884840"/>
            <a:ext cx="5181480" cy="1143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504800" y="1981080"/>
            <a:ext cx="5181840" cy="1143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ermentation (anaerobic)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acteria, yeas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1710360" y="2025360"/>
            <a:ext cx="4770720" cy="1022760"/>
            <a:chOff x="1710360" y="2025360"/>
            <a:chExt cx="4770720" cy="1022760"/>
          </a:xfrm>
        </p:grpSpPr>
        <p:sp>
          <p:nvSpPr>
            <p:cNvPr id="540" name=""/>
            <p:cNvSpPr/>
            <p:nvPr/>
          </p:nvSpPr>
          <p:spPr>
            <a:xfrm>
              <a:off x="5780160" y="2514600"/>
              <a:ext cx="533160" cy="533520"/>
            </a:xfrm>
            <a:prstGeom prst="ellipse">
              <a:avLst/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1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274840" y="2514600"/>
              <a:ext cx="609480" cy="527040"/>
            </a:xfrm>
            <a:prstGeom prst="hexagon">
              <a:avLst>
                <a:gd name="adj" fmla="val 2891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3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255920" y="2514600"/>
              <a:ext cx="609840" cy="527040"/>
            </a:xfrm>
            <a:prstGeom prst="hexagon">
              <a:avLst>
                <a:gd name="adj" fmla="val 28928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2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710360" y="2025360"/>
              <a:ext cx="47707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66"/>
                  </a:solidFill>
                  <a:latin typeface="Arial"/>
                </a:rPr>
                <a:t>pyruvate </a:t>
              </a:r>
              <a:r>
                <a:rPr b="1" lang="en-US" sz="30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660066"/>
                  </a:solidFill>
                  <a:latin typeface="Arial"/>
                </a:rPr>
                <a:t> ethanol + CO</a:t>
              </a:r>
              <a:r>
                <a:rPr b="1" lang="en-US" sz="3000" spc="-1" strike="noStrike" baseline="-25000">
                  <a:solidFill>
                    <a:srgbClr val="660066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838080" y="42670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nimals, some fungi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718280" y="4931640"/>
            <a:ext cx="4127760" cy="1031040"/>
            <a:chOff x="1718280" y="4931640"/>
            <a:chExt cx="4127760" cy="1031040"/>
          </a:xfrm>
        </p:grpSpPr>
        <p:sp>
          <p:nvSpPr>
            <p:cNvPr id="546" name=""/>
            <p:cNvSpPr/>
            <p:nvPr/>
          </p:nvSpPr>
          <p:spPr>
            <a:xfrm>
              <a:off x="1718280" y="4931640"/>
              <a:ext cx="4127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66"/>
                  </a:solidFill>
                  <a:latin typeface="Arial"/>
                </a:rPr>
                <a:t>pyruvate </a:t>
              </a:r>
              <a:r>
                <a:rPr b="1" lang="en-US" sz="30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660066"/>
                  </a:solidFill>
                  <a:latin typeface="Arial"/>
                </a:rPr>
                <a:t> lactic acid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59000" y="5435640"/>
              <a:ext cx="609480" cy="527040"/>
            </a:xfrm>
            <a:prstGeom prst="hexagon">
              <a:avLst>
                <a:gd name="adj" fmla="val 2891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3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545000" y="5435640"/>
              <a:ext cx="609480" cy="527040"/>
            </a:xfrm>
            <a:prstGeom prst="hexagon">
              <a:avLst>
                <a:gd name="adj" fmla="val 2891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3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295200" y="3343320"/>
            <a:ext cx="77724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eer, wine, brea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920" y="62006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085760" indent="-228600">
              <a:lnSpc>
                <a:spcPct val="13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heese, anaerobic exercise (no 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495160" y="2606760"/>
            <a:ext cx="2108520" cy="746640"/>
            <a:chOff x="2495160" y="2606760"/>
            <a:chExt cx="2108520" cy="746640"/>
          </a:xfrm>
        </p:grpSpPr>
        <p:sp>
          <p:nvSpPr>
            <p:cNvPr id="552" name=""/>
            <p:cNvSpPr/>
            <p:nvPr/>
          </p:nvSpPr>
          <p:spPr>
            <a:xfrm flipV="1">
              <a:off x="3240360" y="2606760"/>
              <a:ext cx="632880" cy="421200"/>
            </a:xfrm>
            <a:custGeom>
              <a:avLst/>
              <a:gdLst>
                <a:gd name="textAreaLeft" fmla="*/ 110520 w 632880"/>
                <a:gd name="textAreaRight" fmla="*/ 459000 w 632880"/>
                <a:gd name="textAreaTop" fmla="*/ 56160 h 421200"/>
                <a:gd name="textAreaBottom" fmla="*/ 365040 h 42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495160" y="295452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H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782880" y="295452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</a:t>
              </a:r>
              <a:r>
                <a:rPr b="1" lang="en-US" sz="2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2511000" y="5501880"/>
            <a:ext cx="2108880" cy="747360"/>
            <a:chOff x="2511000" y="5501880"/>
            <a:chExt cx="2108880" cy="747360"/>
          </a:xfrm>
        </p:grpSpPr>
        <p:sp>
          <p:nvSpPr>
            <p:cNvPr id="556" name=""/>
            <p:cNvSpPr/>
            <p:nvPr/>
          </p:nvSpPr>
          <p:spPr>
            <a:xfrm flipV="1">
              <a:off x="3256200" y="5501520"/>
              <a:ext cx="632880" cy="421560"/>
            </a:xfrm>
            <a:custGeom>
              <a:avLst/>
              <a:gdLst>
                <a:gd name="textAreaLeft" fmla="*/ 110520 w 632880"/>
                <a:gd name="textAreaRight" fmla="*/ 459000 w 632880"/>
                <a:gd name="textAreaTop" fmla="*/ 56520 h 421560"/>
                <a:gd name="textAreaBottom" fmla="*/ 365040 h 42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511000" y="585036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H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799080" y="585036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</a:t>
              </a:r>
              <a:r>
                <a:rPr b="1" lang="en-US" sz="2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559" name="" descr=""/>
          <p:cNvPicPr/>
          <p:nvPr/>
        </p:nvPicPr>
        <p:blipFill>
          <a:blip r:embed="rId1"/>
          <a:srcRect l="20250" t="3000" r="24750" b="4504"/>
          <a:stretch/>
        </p:blipFill>
        <p:spPr>
          <a:xfrm>
            <a:off x="6831000" y="541440"/>
            <a:ext cx="2065320" cy="2604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60" name="" descr=""/>
          <p:cNvPicPr/>
          <p:nvPr/>
        </p:nvPicPr>
        <p:blipFill>
          <a:blip r:embed="rId2"/>
          <a:srcRect l="12800" t="0" r="22400" b="0"/>
          <a:stretch/>
        </p:blipFill>
        <p:spPr>
          <a:xfrm>
            <a:off x="6794640" y="4254480"/>
            <a:ext cx="2246040" cy="2475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561" name="" descr=""/>
          <p:cNvPicPr/>
          <p:nvPr/>
        </p:nvPicPr>
        <p:blipFill>
          <a:blip r:embed="rId3"/>
          <a:srcRect l="0" t="0" r="68443" b="0"/>
          <a:stretch/>
        </p:blipFill>
        <p:spPr>
          <a:xfrm>
            <a:off x="152280" y="1428840"/>
            <a:ext cx="752760" cy="212868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4402440" y="31885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o glycolysis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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402440" y="59983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o glycolysis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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4"/>
          <a:stretch/>
        </p:blipFill>
        <p:spPr>
          <a:xfrm>
            <a:off x="7472520" y="1787400"/>
            <a:ext cx="162396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00"/>
                            </p:stCondLst>
                            <p:childTnLst>
                              <p:par>
                                <p:cTn id="8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"/>
                            </p:stCondLst>
                            <p:childTnLst>
                              <p:par>
                                <p:cTn id="8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000"/>
                            </p:stCondLst>
                            <p:childTnLst>
                              <p:par>
                                <p:cTn id="8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500"/>
                            </p:stCondLst>
                            <p:childTnLst>
                              <p:par>
                                <p:cTn id="9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rcRect l="0" t="0" r="0" b="8403"/>
          <a:stretch/>
        </p:blipFill>
        <p:spPr>
          <a:xfrm>
            <a:off x="3881520" y="2720880"/>
            <a:ext cx="5262480" cy="413712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lcohol Ferment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735120" y="1322280"/>
            <a:ext cx="5181480" cy="1143000"/>
            <a:chOff x="735120" y="1322280"/>
            <a:chExt cx="5181480" cy="1143000"/>
          </a:xfrm>
        </p:grpSpPr>
        <p:sp>
          <p:nvSpPr>
            <p:cNvPr id="569" name=""/>
            <p:cNvSpPr/>
            <p:nvPr/>
          </p:nvSpPr>
          <p:spPr>
            <a:xfrm>
              <a:off x="735120" y="1322280"/>
              <a:ext cx="5181480" cy="11430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987840" y="1366560"/>
              <a:ext cx="4770720" cy="1022760"/>
              <a:chOff x="987840" y="1366560"/>
              <a:chExt cx="4770720" cy="1022760"/>
            </a:xfrm>
          </p:grpSpPr>
          <p:sp>
            <p:nvSpPr>
              <p:cNvPr id="571" name=""/>
              <p:cNvSpPr/>
              <p:nvPr/>
            </p:nvSpPr>
            <p:spPr>
              <a:xfrm>
                <a:off x="5057640" y="1855800"/>
                <a:ext cx="533160" cy="533520"/>
              </a:xfrm>
              <a:prstGeom prst="ellipse">
                <a:avLst/>
              </a:prstGeom>
              <a:solidFill>
                <a:srgbClr val="b7c1eb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1C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552320" y="1855800"/>
                <a:ext cx="609480" cy="527040"/>
              </a:xfrm>
              <a:prstGeom prst="hexagon">
                <a:avLst>
                  <a:gd name="adj" fmla="val 28911"/>
                  <a:gd name="vf" fmla="val 115470"/>
                </a:avLst>
              </a:prstGeom>
              <a:solidFill>
                <a:srgbClr val="fff82a"/>
              </a:solidFill>
              <a:ln w="9360">
                <a:solidFill>
                  <a:srgbClr val="fff8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3C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533400" y="1855800"/>
                <a:ext cx="609840" cy="527040"/>
              </a:xfrm>
              <a:prstGeom prst="hexagon">
                <a:avLst>
                  <a:gd name="adj" fmla="val 28928"/>
                  <a:gd name="vf" fmla="val 115470"/>
                </a:avLst>
              </a:prstGeom>
              <a:solidFill>
                <a:srgbClr val="fff82a"/>
              </a:solidFill>
              <a:ln w="9360">
                <a:solidFill>
                  <a:srgbClr val="fff8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2C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987840" y="1366560"/>
                <a:ext cx="4770720" cy="61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660066"/>
                    </a:solidFill>
                    <a:latin typeface="Arial"/>
                  </a:rPr>
                  <a:t>pyruvate </a:t>
                </a:r>
                <a:r>
                  <a:rPr b="1" lang="en-US" sz="3000" spc="-1" strike="noStrike">
                    <a:solidFill>
                      <a:srgbClr val="660066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660066"/>
                    </a:solidFill>
                    <a:latin typeface="Arial"/>
                  </a:rPr>
                  <a:t> ethanol + CO</a:t>
                </a:r>
                <a:r>
                  <a:rPr b="1" lang="en-US" sz="3000" spc="-1" strike="noStrike" baseline="-25000">
                    <a:solidFill>
                      <a:srgbClr val="660066"/>
                    </a:solidFill>
                    <a:latin typeface="Arial"/>
                  </a:rPr>
                  <a:t>2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5" name=""/>
          <p:cNvGrpSpPr/>
          <p:nvPr/>
        </p:nvGrpSpPr>
        <p:grpSpPr>
          <a:xfrm>
            <a:off x="1725120" y="1947960"/>
            <a:ext cx="2108880" cy="746640"/>
            <a:chOff x="1725120" y="1947960"/>
            <a:chExt cx="2108880" cy="746640"/>
          </a:xfrm>
        </p:grpSpPr>
        <p:sp>
          <p:nvSpPr>
            <p:cNvPr id="576" name=""/>
            <p:cNvSpPr/>
            <p:nvPr/>
          </p:nvSpPr>
          <p:spPr>
            <a:xfrm flipV="1">
              <a:off x="2470320" y="1947960"/>
              <a:ext cx="632880" cy="421200"/>
            </a:xfrm>
            <a:custGeom>
              <a:avLst/>
              <a:gdLst>
                <a:gd name="textAreaLeft" fmla="*/ 110520 w 632880"/>
                <a:gd name="textAreaRight" fmla="*/ 459000 w 632880"/>
                <a:gd name="textAreaTop" fmla="*/ 56160 h 421200"/>
                <a:gd name="textAreaBottom" fmla="*/ 365040 h 42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725120" y="229572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H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13200" y="229572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</a:t>
              </a:r>
              <a:r>
                <a:rPr b="1" lang="en-US" sz="2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 flipV="1" rot="18616200">
            <a:off x="5528160" y="1076040"/>
            <a:ext cx="1014480" cy="387360"/>
          </a:xfrm>
          <a:custGeom>
            <a:avLst/>
            <a:gdLst/>
            <a:ahLst/>
            <a:rect l="l" t="t" r="r" b="b"/>
            <a:pathLst>
              <a:path w="639" h="244">
                <a:moveTo>
                  <a:pt x="0" y="192"/>
                </a:moveTo>
                <a:lnTo>
                  <a:pt x="192" y="244"/>
                </a:lnTo>
                <a:lnTo>
                  <a:pt x="192" y="96"/>
                </a:lnTo>
                <a:lnTo>
                  <a:pt x="336" y="134"/>
                </a:lnTo>
                <a:lnTo>
                  <a:pt x="336" y="0"/>
                </a:lnTo>
                <a:cubicBezTo>
                  <a:pt x="596" y="69"/>
                  <a:pt x="493" y="54"/>
                  <a:pt x="639" y="71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 flipH="1">
            <a:off x="1458360" y="4984920"/>
            <a:ext cx="1655640" cy="906120"/>
          </a:xfrm>
          <a:prstGeom prst="wedgeEllipseCallout">
            <a:avLst>
              <a:gd name="adj1" fmla="val 73773"/>
              <a:gd name="adj2" fmla="val 31611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ount th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arbons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09520" y="2720880"/>
            <a:ext cx="3726000" cy="21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ead end proces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lvl="1" marL="627120" indent="-230400">
              <a:lnSpc>
                <a:spcPct val="100000"/>
              </a:lnSpc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at ~12% ethanol, kills yeast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1" marL="627120" indent="-230400">
              <a:lnSpc>
                <a:spcPct val="100000"/>
              </a:lnSpc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can’t reverse the reaction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405560" y="341640"/>
            <a:ext cx="17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acteria yea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500"/>
                            </p:stCondLst>
                            <p:childTnLst>
                              <p:par>
                                <p:cTn id="9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169920" y="2855880"/>
            <a:ext cx="4091040" cy="23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10000"/>
              </a:lnSpc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versible proces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lvl="1" marL="627120" indent="-230400">
              <a:lnSpc>
                <a:spcPct val="110000"/>
              </a:lnSpc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once O</a:t>
            </a:r>
            <a:r>
              <a:rPr b="1" lang="en-US" sz="26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is available, lactate is converted back to pyruvate by the liver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rcRect l="5138" t="2400" r="8217" b="12000"/>
          <a:stretch/>
        </p:blipFill>
        <p:spPr>
          <a:xfrm>
            <a:off x="4113360" y="2585880"/>
            <a:ext cx="4949640" cy="418644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actic Acid Ferment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671400" y="1328760"/>
            <a:ext cx="4657680" cy="1143000"/>
            <a:chOff x="671400" y="1328760"/>
            <a:chExt cx="4657680" cy="1143000"/>
          </a:xfrm>
        </p:grpSpPr>
        <p:sp>
          <p:nvSpPr>
            <p:cNvPr id="589" name=""/>
            <p:cNvSpPr/>
            <p:nvPr/>
          </p:nvSpPr>
          <p:spPr>
            <a:xfrm>
              <a:off x="671400" y="1328760"/>
              <a:ext cx="4657680" cy="11430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90" name=""/>
            <p:cNvGrpSpPr/>
            <p:nvPr/>
          </p:nvGrpSpPr>
          <p:grpSpPr>
            <a:xfrm>
              <a:off x="869040" y="1375560"/>
              <a:ext cx="4127760" cy="1031040"/>
              <a:chOff x="869040" y="1375560"/>
              <a:chExt cx="4127760" cy="1031040"/>
            </a:xfrm>
          </p:grpSpPr>
          <p:sp>
            <p:nvSpPr>
              <p:cNvPr id="591" name=""/>
              <p:cNvSpPr/>
              <p:nvPr/>
            </p:nvSpPr>
            <p:spPr>
              <a:xfrm>
                <a:off x="869040" y="1375560"/>
                <a:ext cx="41277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660066"/>
                    </a:solidFill>
                    <a:latin typeface="Arial"/>
                  </a:rPr>
                  <a:t>pyruvate </a:t>
                </a:r>
                <a:r>
                  <a:rPr b="1" lang="en-US" sz="3000" spc="-1" strike="noStrike">
                    <a:solidFill>
                      <a:srgbClr val="660066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660066"/>
                    </a:solidFill>
                    <a:latin typeface="Arial"/>
                  </a:rPr>
                  <a:t> lactic acid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409760" y="1879560"/>
                <a:ext cx="609480" cy="527040"/>
              </a:xfrm>
              <a:prstGeom prst="hexagon">
                <a:avLst>
                  <a:gd name="adj" fmla="val 28911"/>
                  <a:gd name="vf" fmla="val 115470"/>
                </a:avLst>
              </a:prstGeom>
              <a:solidFill>
                <a:srgbClr val="fff82a"/>
              </a:solidFill>
              <a:ln w="9360">
                <a:solidFill>
                  <a:srgbClr val="fff8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3C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695760" y="1879560"/>
                <a:ext cx="609480" cy="527040"/>
              </a:xfrm>
              <a:prstGeom prst="hexagon">
                <a:avLst>
                  <a:gd name="adj" fmla="val 28911"/>
                  <a:gd name="vf" fmla="val 115470"/>
                </a:avLst>
              </a:prstGeom>
              <a:solidFill>
                <a:srgbClr val="fff82a"/>
              </a:solidFill>
              <a:ln w="9360">
                <a:solidFill>
                  <a:srgbClr val="fff8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3C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4" name=""/>
          <p:cNvGrpSpPr/>
          <p:nvPr/>
        </p:nvGrpSpPr>
        <p:grpSpPr>
          <a:xfrm>
            <a:off x="1661760" y="1945800"/>
            <a:ext cx="2108520" cy="747360"/>
            <a:chOff x="1661760" y="1945800"/>
            <a:chExt cx="2108520" cy="747360"/>
          </a:xfrm>
        </p:grpSpPr>
        <p:sp>
          <p:nvSpPr>
            <p:cNvPr id="595" name=""/>
            <p:cNvSpPr/>
            <p:nvPr/>
          </p:nvSpPr>
          <p:spPr>
            <a:xfrm flipV="1">
              <a:off x="2406960" y="1945440"/>
              <a:ext cx="632880" cy="421560"/>
            </a:xfrm>
            <a:custGeom>
              <a:avLst/>
              <a:gdLst>
                <a:gd name="textAreaLeft" fmla="*/ 110520 w 632880"/>
                <a:gd name="textAreaRight" fmla="*/ 459000 w 632880"/>
                <a:gd name="textAreaTop" fmla="*/ 56520 h 421560"/>
                <a:gd name="textAreaBottom" fmla="*/ 365040 h 42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661760" y="229428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H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949480" y="229428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</a:t>
              </a:r>
              <a:r>
                <a:rPr b="1" lang="en-US" sz="2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 flipH="1" flipV="1">
            <a:off x="2525760" y="1478880"/>
            <a:ext cx="48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 flipH="1">
            <a:off x="1639800" y="5419800"/>
            <a:ext cx="1656000" cy="906480"/>
          </a:xfrm>
          <a:prstGeom prst="wedgeEllipseCallout">
            <a:avLst>
              <a:gd name="adj1" fmla="val 84611"/>
              <a:gd name="adj2" fmla="val -1655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ount th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arbons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5190840" y="1237680"/>
            <a:ext cx="502200" cy="508680"/>
            <a:chOff x="5190840" y="1237680"/>
            <a:chExt cx="502200" cy="508680"/>
          </a:xfrm>
        </p:grpSpPr>
        <p:sp>
          <p:nvSpPr>
            <p:cNvPr id="602" name=""/>
            <p:cNvSpPr/>
            <p:nvPr/>
          </p:nvSpPr>
          <p:spPr>
            <a:xfrm>
              <a:off x="5191200" y="1254240"/>
              <a:ext cx="492120" cy="492120"/>
            </a:xfrm>
            <a:prstGeom prst="ellipse">
              <a:avLst/>
            </a:prstGeom>
            <a:solidFill>
              <a:srgbClr val="ffea18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190840" y="1237680"/>
              <a:ext cx="5022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f116a"/>
                  </a:solidFill>
                  <a:latin typeface="Arial"/>
                </a:rPr>
                <a:t>O</a:t>
              </a:r>
              <a:r>
                <a:rPr b="1" lang="en-US" sz="23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23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7294680" y="39744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nimal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0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0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yruvate is a branching poin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rcRect l="0" t="0" r="2087" b="4441"/>
          <a:stretch/>
        </p:blipFill>
        <p:spPr>
          <a:xfrm>
            <a:off x="4800600" y="1676520"/>
            <a:ext cx="3843360" cy="434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1981440" cy="60948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2249280" y="1951560"/>
            <a:ext cx="1749960" cy="2725920"/>
            <a:chOff x="2249280" y="1951560"/>
            <a:chExt cx="1749960" cy="2725920"/>
          </a:xfrm>
        </p:grpSpPr>
        <p:sp>
          <p:nvSpPr>
            <p:cNvPr id="609" name=""/>
            <p:cNvSpPr/>
            <p:nvPr/>
          </p:nvSpPr>
          <p:spPr>
            <a:xfrm rot="19800000">
              <a:off x="2971800" y="1828440"/>
              <a:ext cx="304920" cy="2971800"/>
            </a:xfrm>
            <a:prstGeom prst="downArrow">
              <a:avLst>
                <a:gd name="adj1" fmla="val 50000"/>
                <a:gd name="adj2" fmla="val 243654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2438280" y="2512800"/>
              <a:ext cx="685800" cy="687600"/>
              <a:chOff x="2438280" y="2512800"/>
              <a:chExt cx="685800" cy="687600"/>
            </a:xfrm>
          </p:grpSpPr>
          <p:sp>
            <p:nvSpPr>
              <p:cNvPr id="611" name=""/>
              <p:cNvSpPr/>
              <p:nvPr/>
            </p:nvSpPr>
            <p:spPr>
              <a:xfrm>
                <a:off x="2438280" y="2514600"/>
                <a:ext cx="685800" cy="685800"/>
              </a:xfrm>
              <a:prstGeom prst="ellipse">
                <a:avLst/>
              </a:prstGeom>
              <a:solidFill>
                <a:srgbClr val="b7c1eb"/>
              </a:solidFill>
              <a:ln w="28440">
                <a:solidFill>
                  <a:srgbClr val="b7c1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449440" y="2512800"/>
                <a:ext cx="599760" cy="61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n-US" sz="3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3" name=""/>
          <p:cNvGrpSpPr/>
          <p:nvPr/>
        </p:nvGrpSpPr>
        <p:grpSpPr>
          <a:xfrm>
            <a:off x="1106280" y="1946520"/>
            <a:ext cx="1140480" cy="1670040"/>
            <a:chOff x="1106280" y="1946520"/>
            <a:chExt cx="1140480" cy="1670040"/>
          </a:xfrm>
        </p:grpSpPr>
        <p:sp>
          <p:nvSpPr>
            <p:cNvPr id="614" name=""/>
            <p:cNvSpPr/>
            <p:nvPr/>
          </p:nvSpPr>
          <p:spPr>
            <a:xfrm rot="1800000">
              <a:off x="1523880" y="1905120"/>
              <a:ext cx="304920" cy="1752480"/>
            </a:xfrm>
            <a:prstGeom prst="downArrow">
              <a:avLst>
                <a:gd name="adj1" fmla="val 50000"/>
                <a:gd name="adj2" fmla="val 143684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1294920" y="2360160"/>
              <a:ext cx="686160" cy="717840"/>
              <a:chOff x="1294920" y="2360160"/>
              <a:chExt cx="686160" cy="717840"/>
            </a:xfrm>
          </p:grpSpPr>
          <p:sp>
            <p:nvSpPr>
              <p:cNvPr id="616" name=""/>
              <p:cNvSpPr/>
              <p:nvPr/>
            </p:nvSpPr>
            <p:spPr>
              <a:xfrm>
                <a:off x="1295280" y="2362320"/>
                <a:ext cx="685800" cy="685800"/>
              </a:xfrm>
              <a:prstGeom prst="ellipse">
                <a:avLst/>
              </a:prstGeom>
              <a:solidFill>
                <a:srgbClr val="b7c1eb"/>
              </a:solidFill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306440" y="2360160"/>
                <a:ext cx="599760" cy="61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n-US" sz="3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1294920" y="2392200"/>
                <a:ext cx="685800" cy="68580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9" name=""/>
          <p:cNvSpPr/>
          <p:nvPr/>
        </p:nvSpPr>
        <p:spPr>
          <a:xfrm>
            <a:off x="1743120" y="4471560"/>
            <a:ext cx="4052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mitochondria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Kreb’s cycle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erobic respiration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-2520" y="3361320"/>
            <a:ext cx="2486520" cy="12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fermentation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naerobic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spiration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6929280" y="388800"/>
            <a:ext cx="2114280" cy="1855800"/>
            <a:chOff x="6929280" y="388800"/>
            <a:chExt cx="2114280" cy="1855800"/>
          </a:xfrm>
        </p:grpSpPr>
        <p:pic>
          <p:nvPicPr>
            <p:cNvPr id="622" name="" descr=""/>
            <p:cNvPicPr/>
            <p:nvPr/>
          </p:nvPicPr>
          <p:blipFill>
            <a:blip r:embed="rId1"/>
            <a:srcRect l="12378" t="3000" r="12378" b="6000"/>
            <a:stretch/>
          </p:blipFill>
          <p:spPr>
            <a:xfrm>
              <a:off x="6997320" y="388800"/>
              <a:ext cx="204624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6929280" y="1888200"/>
              <a:ext cx="272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624" name="" descr=""/>
          <p:cNvPicPr/>
          <p:nvPr/>
        </p:nvPicPr>
        <p:blipFill>
          <a:blip r:embed="rId2"/>
          <a:srcRect l="0" t="0" r="41629" b="0"/>
          <a:stretch/>
        </p:blipFill>
        <p:spPr>
          <a:xfrm rot="20335800">
            <a:off x="0" y="32364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25" name=""/>
          <p:cNvSpPr/>
          <p:nvPr/>
        </p:nvSpPr>
        <p:spPr>
          <a:xfrm flipH="1">
            <a:off x="2959920" y="739800"/>
            <a:ext cx="2801880" cy="1611360"/>
          </a:xfrm>
          <a:prstGeom prst="wedgeEllipseCallout">
            <a:avLst>
              <a:gd name="adj1" fmla="val 109939"/>
              <a:gd name="adj2" fmla="val 194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What’s the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point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3"/>
          <a:stretch/>
        </p:blipFill>
        <p:spPr>
          <a:xfrm>
            <a:off x="7101000" y="4011480"/>
            <a:ext cx="2022480" cy="281484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 flipH="1">
            <a:off x="3483000" y="2652840"/>
            <a:ext cx="3943440" cy="2127240"/>
          </a:xfrm>
          <a:prstGeom prst="wedgeEllipseCallout">
            <a:avLst>
              <a:gd name="adj1" fmla="val -50648"/>
              <a:gd name="adj2" fmla="val 8738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is to make</a:t>
            </a:r>
            <a:br>
              <a:rPr sz="36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i="1" lang="en-US" sz="3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12760" y="3867120"/>
            <a:ext cx="4191120" cy="27432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0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500"/>
                            </p:stCondLst>
                            <p:childTnLst>
                              <p:par>
                                <p:cTn id="10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500"/>
                            </p:stCondLst>
                            <p:childTnLst>
                              <p:par>
                                <p:cTn id="10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3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326880" y="1300320"/>
            <a:ext cx="462240" cy="24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4672080" y="398520"/>
            <a:ext cx="4152960" cy="5738760"/>
            <a:chOff x="4672080" y="398520"/>
            <a:chExt cx="4152960" cy="5738760"/>
          </a:xfrm>
        </p:grpSpPr>
        <p:pic>
          <p:nvPicPr>
            <p:cNvPr id="631" name="" descr=""/>
            <p:cNvPicPr/>
            <p:nvPr/>
          </p:nvPicPr>
          <p:blipFill>
            <a:blip r:embed="rId1"/>
            <a:srcRect l="22500" t="4504" r="28129" b="4504"/>
            <a:stretch/>
          </p:blipFill>
          <p:spPr>
            <a:xfrm>
              <a:off x="4672080" y="398520"/>
              <a:ext cx="415296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7689240" y="56689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712040" y="4481640"/>
              <a:ext cx="360" cy="365040"/>
            </a:xfrm>
            <a:prstGeom prst="rect">
              <a:avLst/>
            </a:prstGeom>
            <a:solidFill>
              <a:srgbClr val="eac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247240" y="3855960"/>
              <a:ext cx="7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313840" y="303840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046200" y="11253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77960" y="121284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020800" y="6397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938280" y="121284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420680" y="10969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290720" y="7081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693840" y="7002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131880" y="4507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5181480" y="5025960"/>
            <a:ext cx="905040" cy="682560"/>
          </a:xfrm>
          <a:prstGeom prst="rect">
            <a:avLst/>
          </a:prstGeom>
          <a:solidFill>
            <a:srgbClr val="eec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88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d how do we do that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902120" y="5072040"/>
            <a:ext cx="1389240" cy="909720"/>
          </a:xfrm>
          <a:prstGeom prst="irregularSeal1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23920" y="6345360"/>
            <a:ext cx="4633920" cy="45972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ut…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Have we done that yet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14880" y="4276800"/>
            <a:ext cx="1022400" cy="514440"/>
          </a:xfrm>
          <a:custGeom>
            <a:avLst/>
            <a:gdLst>
              <a:gd name="textAreaLeft" fmla="*/ 233280 w 1022400"/>
              <a:gd name="textAreaRight" fmla="*/ 789120 w 1022400"/>
              <a:gd name="textAreaTop" fmla="*/ 117360 h 514440"/>
              <a:gd name="textAreaBottom" fmla="*/ 397080 h 514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6404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a18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840280" y="4606920"/>
            <a:ext cx="658800" cy="627120"/>
          </a:xfrm>
          <a:custGeom>
            <a:avLst/>
            <a:gdLst/>
            <a:ahLst/>
            <a:rect l="l" t="t" r="r" b="b"/>
            <a:pathLst>
              <a:path w="324" h="355">
                <a:moveTo>
                  <a:pt x="0" y="0"/>
                </a:moveTo>
                <a:cubicBezTo>
                  <a:pt x="142" y="25"/>
                  <a:pt x="284" y="50"/>
                  <a:pt x="304" y="109"/>
                </a:cubicBezTo>
                <a:cubicBezTo>
                  <a:pt x="324" y="168"/>
                  <a:pt x="223" y="261"/>
                  <a:pt x="123" y="355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5241600" y="4348800"/>
            <a:ext cx="671400" cy="459720"/>
            <a:chOff x="5241600" y="4348800"/>
            <a:chExt cx="671400" cy="459720"/>
          </a:xfrm>
        </p:grpSpPr>
        <p:sp>
          <p:nvSpPr>
            <p:cNvPr id="651" name=""/>
            <p:cNvSpPr/>
            <p:nvPr/>
          </p:nvSpPr>
          <p:spPr>
            <a:xfrm>
              <a:off x="5514480" y="4380120"/>
              <a:ext cx="398520" cy="3985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41600" y="43488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22400" y="1552680"/>
            <a:ext cx="57132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ATP synthas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t up a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radien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llow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flow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hrough ATP synthas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owers bonding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f P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AD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AD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+ P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i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 flipH="1" rot="2367600">
            <a:off x="7733880" y="4933800"/>
            <a:ext cx="136224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6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500"/>
                            </p:stCondLst>
                            <p:childTnLst>
                              <p:par>
                                <p:cTn id="10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8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6929280" y="388800"/>
            <a:ext cx="2114280" cy="1855800"/>
            <a:chOff x="6929280" y="388800"/>
            <a:chExt cx="2114280" cy="185580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rcRect l="12378" t="3000" r="12378" b="6000"/>
            <a:stretch/>
          </p:blipFill>
          <p:spPr>
            <a:xfrm>
              <a:off x="6997320" y="388800"/>
              <a:ext cx="204624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929280" y="1888200"/>
              <a:ext cx="272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2"/>
          <a:srcRect l="0" t="0" r="41629" b="0"/>
          <a:stretch/>
        </p:blipFill>
        <p:spPr>
          <a:xfrm rot="20335800">
            <a:off x="0" y="32364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9" name=""/>
          <p:cNvSpPr/>
          <p:nvPr/>
        </p:nvSpPr>
        <p:spPr>
          <a:xfrm flipH="1">
            <a:off x="2959920" y="739800"/>
            <a:ext cx="2801880" cy="1611360"/>
          </a:xfrm>
          <a:prstGeom prst="wedgeEllipseCallout">
            <a:avLst>
              <a:gd name="adj1" fmla="val 109939"/>
              <a:gd name="adj2" fmla="val 194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What’s the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point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7101000" y="4011480"/>
            <a:ext cx="2022480" cy="281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H="1">
            <a:off x="3483000" y="2652840"/>
            <a:ext cx="3943440" cy="2127240"/>
          </a:xfrm>
          <a:prstGeom prst="wedgeEllipseCallout">
            <a:avLst>
              <a:gd name="adj1" fmla="val -50648"/>
              <a:gd name="adj2" fmla="val 8738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is to make</a:t>
            </a:r>
            <a:br>
              <a:rPr sz="36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i="1" lang="en-US" sz="3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2760" y="3867120"/>
            <a:ext cx="4191120" cy="27432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 rot="19232400">
            <a:off x="848880" y="1971360"/>
            <a:ext cx="2646360" cy="368136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3611520" y="1114560"/>
            <a:ext cx="5181480" cy="2439720"/>
          </a:xfrm>
          <a:prstGeom prst="wedgeEllipseCallout">
            <a:avLst>
              <a:gd name="adj1" fmla="val -75921"/>
              <a:gd name="adj2" fmla="val 89166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360" rIns="18360" tIns="182880" bIns="1828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NO</a:t>
            </a:r>
            <a:r>
              <a:rPr b="1" i="1" lang="en-US" sz="32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There’s still more to my</a:t>
            </a:r>
            <a:r>
              <a:rPr b="1" i="1" lang="en-US" sz="3200" spc="-1" strike="noStrike">
                <a:solidFill>
                  <a:srgbClr val="0f116a"/>
                </a:solidFill>
                <a:latin typeface="Comic Sans MS"/>
              </a:rPr>
              <a:t> s</a:t>
            </a: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tory</a:t>
            </a:r>
            <a:r>
              <a:rPr b="1" i="1" lang="en-US" sz="32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Any Questions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0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lycolysi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Breaking down glucose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glyco – lysis” (splitting sugar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endParaRPr b="1" lang="en-US" sz="9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ncient pathway which harvests energy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here energy transfer first evolved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transfer energy from organic molecules to ATP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till is starting point for all cellular respiration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but it’s inefficient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enerate only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2 ATP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for every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1 glucos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occurs in cytosol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486080" y="2446200"/>
            <a:ext cx="5105160" cy="1066680"/>
            <a:chOff x="1486080" y="2446200"/>
            <a:chExt cx="5105160" cy="1066680"/>
          </a:xfrm>
        </p:grpSpPr>
        <p:sp>
          <p:nvSpPr>
            <p:cNvPr id="116" name=""/>
            <p:cNvSpPr/>
            <p:nvPr/>
          </p:nvSpPr>
          <p:spPr>
            <a:xfrm>
              <a:off x="1486080" y="2446200"/>
              <a:ext cx="5105160" cy="106668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24400" y="2506320"/>
              <a:ext cx="4703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glucose </a:t>
              </a:r>
              <a:r>
                <a:rPr b="1" lang="en-US" sz="26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 pyruvate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4400" y="2925360"/>
              <a:ext cx="50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660066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42920" y="2906640"/>
              <a:ext cx="609480" cy="527040"/>
            </a:xfrm>
            <a:prstGeom prst="hexagon">
              <a:avLst>
                <a:gd name="adj" fmla="val 2891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6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600520" y="2906640"/>
              <a:ext cx="609480" cy="527040"/>
            </a:xfrm>
            <a:prstGeom prst="hexagon">
              <a:avLst>
                <a:gd name="adj" fmla="val 2891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3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869240" y="3142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194600" y="1873080"/>
            <a:ext cx="1857240" cy="1900440"/>
          </a:xfrm>
          <a:prstGeom prst="wedgeEllipseCallout">
            <a:avLst>
              <a:gd name="adj1" fmla="val 1624"/>
              <a:gd name="adj2" fmla="val -107726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n th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ytosol?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Why doe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at mak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evolutionary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sense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505640" y="4842000"/>
            <a:ext cx="1532160" cy="1915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volutionary perspectiv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07760" y="1371240"/>
            <a:ext cx="8435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rokaryote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first cells had no organelle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Anaerobic atmospher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life on Earth first evolved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without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free oxygen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(O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 in atmospher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nergy had to be captured from organic molecules in absence of O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Prokaryotes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that evolved glycolysis are ancestors of all modern lif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ALL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cells still utilize glycolysi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967120" y="5342040"/>
            <a:ext cx="2087640" cy="1403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51040" y="5338800"/>
            <a:ext cx="2001600" cy="1406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7770960" y="547992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960800" y="5315040"/>
            <a:ext cx="2386080" cy="1450800"/>
          </a:xfrm>
          <a:prstGeom prst="wedgeEllipseCallout">
            <a:avLst>
              <a:gd name="adj1" fmla="val 80740"/>
              <a:gd name="adj2" fmla="val -2724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You mean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we’re related?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Do I have to invit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m over for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holidays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1333080"/>
            <a:ext cx="3657600" cy="483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10 reactions</a:t>
            </a:r>
            <a:endParaRPr b="1" lang="en-US" sz="3400" spc="-1" strike="noStrike">
              <a:solidFill>
                <a:srgbClr val="0f116a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vert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glucose (6C)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o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pyruvate (3C)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s: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4 ATP &amp; 2 NAD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sumes: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AT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et: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ATP &amp; 2 NAD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02080" y="457200"/>
            <a:ext cx="5553000" cy="632448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50720" y="462600"/>
            <a:ext cx="24681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lucose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-C-C-C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84640" y="121608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71280" y="2118240"/>
            <a:ext cx="32299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ructose-1,6b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-C-C-C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39800" y="3351600"/>
            <a:ext cx="16419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HA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12960" y="3351600"/>
            <a:ext cx="16419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3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32400" y="6040800"/>
            <a:ext cx="17686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09120" y="68544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4320" y="6155280"/>
            <a:ext cx="4730040" cy="7038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DHAP = dihydroxyacetone phosphat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3P = glyceraldehyde-3-phosphat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07240" y="1378080"/>
            <a:ext cx="838080" cy="57924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160 h 579240"/>
              <a:gd name="textAreaBottom" fmla="*/ 420120 h 57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667200" y="890640"/>
            <a:ext cx="1517760" cy="852480"/>
            <a:chOff x="6667200" y="890640"/>
            <a:chExt cx="1517760" cy="852480"/>
          </a:xfrm>
        </p:grpSpPr>
        <p:sp>
          <p:nvSpPr>
            <p:cNvPr id="142" name=""/>
            <p:cNvSpPr/>
            <p:nvPr/>
          </p:nvSpPr>
          <p:spPr>
            <a:xfrm>
              <a:off x="6884640" y="890640"/>
              <a:ext cx="1300320" cy="85248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67200" y="108252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514560" y="1509840"/>
            <a:ext cx="1536840" cy="901080"/>
            <a:chOff x="6514560" y="1509840"/>
            <a:chExt cx="1536840" cy="901080"/>
          </a:xfrm>
        </p:grpSpPr>
        <p:sp>
          <p:nvSpPr>
            <p:cNvPr id="145" name=""/>
            <p:cNvSpPr/>
            <p:nvPr/>
          </p:nvSpPr>
          <p:spPr>
            <a:xfrm>
              <a:off x="7029360" y="170496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14560" y="150984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908840" y="1203480"/>
            <a:ext cx="984240" cy="85860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7488000" y="5686560"/>
            <a:ext cx="1517760" cy="852480"/>
            <a:chOff x="7488000" y="5686560"/>
            <a:chExt cx="1517760" cy="852480"/>
          </a:xfrm>
        </p:grpSpPr>
        <p:sp>
          <p:nvSpPr>
            <p:cNvPr id="149" name=""/>
            <p:cNvSpPr/>
            <p:nvPr/>
          </p:nvSpPr>
          <p:spPr>
            <a:xfrm>
              <a:off x="7705440" y="5686560"/>
              <a:ext cx="1300320" cy="85248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88000" y="587844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7328880" y="5004000"/>
            <a:ext cx="1536840" cy="901080"/>
            <a:chOff x="7328880" y="5004000"/>
            <a:chExt cx="1536840" cy="901080"/>
          </a:xfrm>
        </p:grpSpPr>
        <p:sp>
          <p:nvSpPr>
            <p:cNvPr id="152" name=""/>
            <p:cNvSpPr/>
            <p:nvPr/>
          </p:nvSpPr>
          <p:spPr>
            <a:xfrm>
              <a:off x="7843680" y="519912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28880" y="500400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707160" y="5551560"/>
            <a:ext cx="838080" cy="55548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520 h 555480"/>
              <a:gd name="textAreaBottom" fmla="*/ 398520 h 55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00" stAng="-5400000" swAng="-5400000"/>
                <a:lnTo>
                  <a:pt x="0" y="11541"/>
                </a:lnTo>
                <a:arcTo wR="21600" hR="7900" stAng="10800000" swAng="-2963054"/>
                <a:lnTo>
                  <a:pt x="15136" y="21238"/>
                </a:lnTo>
                <a:lnTo>
                  <a:pt x="21600" y="17620"/>
                </a:lnTo>
                <a:lnTo>
                  <a:pt x="15136" y="13277"/>
                </a:lnTo>
                <a:lnTo>
                  <a:pt x="15136" y="15437"/>
                </a:lnTo>
                <a:arcTo wR="21600" hR="7900" stAng="7836946" swAng="2666039"/>
                <a:lnTo>
                  <a:pt x="581" y="9720"/>
                </a:lnTo>
                <a:arcTo wR="21600" hR="7900" stAng="-10502985" swAng="5102985"/>
                <a:close/>
              </a:path>
              <a:path fill="darkenLess" w="21600" h="21600">
                <a:moveTo>
                  <a:pt x="21600" y="0"/>
                </a:moveTo>
                <a:arcTo wR="21600" hR="7900" stAng="-5400000" swAng="-5400000"/>
                <a:lnTo>
                  <a:pt x="0" y="7900"/>
                </a:lnTo>
                <a:arcTo wR="21600" hR="7900" stAng="10800000" swAng="-297015"/>
                <a:lnTo>
                  <a:pt x="581" y="9720"/>
                </a:lnTo>
                <a:arcTo wR="21600" hR="7900" stAng="-10502985" swAng="510298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7327440" y="3746880"/>
            <a:ext cx="1536840" cy="901080"/>
            <a:chOff x="7327440" y="3746880"/>
            <a:chExt cx="1536840" cy="901080"/>
          </a:xfrm>
        </p:grpSpPr>
        <p:sp>
          <p:nvSpPr>
            <p:cNvPr id="156" name=""/>
            <p:cNvSpPr/>
            <p:nvPr/>
          </p:nvSpPr>
          <p:spPr>
            <a:xfrm>
              <a:off x="7842240" y="394200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NAD</a:t>
              </a:r>
              <a:r>
                <a:rPr b="1" lang="en-US" sz="2400" spc="-1" strike="noStrike" baseline="30000">
                  <a:solidFill>
                    <a:srgbClr val="660066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27440" y="374688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7480080" y="4376880"/>
            <a:ext cx="1433880" cy="718920"/>
            <a:chOff x="7480080" y="4376880"/>
            <a:chExt cx="1433880" cy="718920"/>
          </a:xfrm>
        </p:grpSpPr>
        <p:sp>
          <p:nvSpPr>
            <p:cNvPr id="159" name=""/>
            <p:cNvSpPr/>
            <p:nvPr/>
          </p:nvSpPr>
          <p:spPr>
            <a:xfrm>
              <a:off x="7480080" y="438912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2"/>
            <a:stretch/>
          </p:blipFill>
          <p:spPr>
            <a:xfrm>
              <a:off x="7756560" y="4376880"/>
              <a:ext cx="1157400" cy="71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/>
          <p:nvPr/>
        </p:nvSpPr>
        <p:spPr>
          <a:xfrm>
            <a:off x="6707160" y="4200480"/>
            <a:ext cx="838080" cy="55584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520 h 555840"/>
              <a:gd name="textAreaBottom" fmla="*/ 398520 h 5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00" stAng="-5400000" swAng="-5400000"/>
                <a:lnTo>
                  <a:pt x="0" y="11541"/>
                </a:lnTo>
                <a:arcTo wR="21600" hR="7900" stAng="10800000" swAng="-2963054"/>
                <a:lnTo>
                  <a:pt x="15136" y="21238"/>
                </a:lnTo>
                <a:lnTo>
                  <a:pt x="21600" y="17620"/>
                </a:lnTo>
                <a:lnTo>
                  <a:pt x="15136" y="13277"/>
                </a:lnTo>
                <a:lnTo>
                  <a:pt x="15136" y="15437"/>
                </a:lnTo>
                <a:arcTo wR="21600" hR="7900" stAng="7836946" swAng="2666039"/>
                <a:lnTo>
                  <a:pt x="581" y="9720"/>
                </a:lnTo>
                <a:arcTo wR="21600" hR="7900" stAng="-10502985" swAng="5102985"/>
                <a:close/>
              </a:path>
              <a:path fill="darkenLess" w="21600" h="21600">
                <a:moveTo>
                  <a:pt x="21600" y="0"/>
                </a:moveTo>
                <a:arcTo wR="21600" hR="7900" stAng="-5400000" swAng="-5400000"/>
                <a:lnTo>
                  <a:pt x="0" y="7900"/>
                </a:lnTo>
                <a:arcTo wR="21600" hR="7900" stAng="10800000" swAng="-297015"/>
                <a:lnTo>
                  <a:pt x="581" y="9720"/>
                </a:lnTo>
                <a:arcTo wR="21600" hR="7900" stAng="-10502985" swAng="510298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84640" y="173340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92480" y="292248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43680" y="292248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43680" y="423720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43680" y="488484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43680" y="553392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16200000">
            <a:off x="5085720" y="3234600"/>
            <a:ext cx="380880" cy="588960"/>
          </a:xfrm>
          <a:prstGeom prst="downArrow">
            <a:avLst>
              <a:gd name="adj1" fmla="val 50000"/>
              <a:gd name="adj2" fmla="val 38658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45920" y="5217480"/>
            <a:ext cx="639360" cy="668520"/>
            <a:chOff x="6145920" y="5217480"/>
            <a:chExt cx="639360" cy="668520"/>
          </a:xfrm>
        </p:grpSpPr>
        <p:sp>
          <p:nvSpPr>
            <p:cNvPr id="170" name=""/>
            <p:cNvSpPr/>
            <p:nvPr/>
          </p:nvSpPr>
          <p:spPr>
            <a:xfrm flipH="1" rot="14452800">
              <a:off x="6277680" y="5465520"/>
              <a:ext cx="421920" cy="317520"/>
            </a:xfrm>
            <a:custGeom>
              <a:avLst/>
              <a:gdLst>
                <a:gd name="textAreaLeft" fmla="*/ 360 w 421920"/>
                <a:gd name="textAreaRight" fmla="*/ 422640 w 421920"/>
                <a:gd name="textAreaTop" fmla="*/ 0 h 317520"/>
                <a:gd name="textAreaBottom" fmla="*/ 31752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015675"/>
                  <a:lnTo>
                    <a:pt x="5909" y="1171"/>
                  </a:lnTo>
                  <a:arcTo wR="10800" hR="10800" stAng="-7015675" swAng="7015675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45920" y="5217480"/>
              <a:ext cx="639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i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629960" y="1166760"/>
            <a:ext cx="741600" cy="446040"/>
            <a:chOff x="4629960" y="1166760"/>
            <a:chExt cx="741600" cy="446040"/>
          </a:xfrm>
        </p:grpSpPr>
        <p:sp>
          <p:nvSpPr>
            <p:cNvPr id="173" name=""/>
            <p:cNvSpPr/>
            <p:nvPr/>
          </p:nvSpPr>
          <p:spPr>
            <a:xfrm>
              <a:off x="5021280" y="1190520"/>
              <a:ext cx="19548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29320" y="1209600"/>
              <a:ext cx="52848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29960" y="12675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21200" y="1166760"/>
              <a:ext cx="189000" cy="16344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629960" y="1728720"/>
            <a:ext cx="741600" cy="446040"/>
            <a:chOff x="4629960" y="1728720"/>
            <a:chExt cx="741600" cy="446040"/>
          </a:xfrm>
        </p:grpSpPr>
        <p:sp>
          <p:nvSpPr>
            <p:cNvPr id="178" name=""/>
            <p:cNvSpPr/>
            <p:nvPr/>
          </p:nvSpPr>
          <p:spPr>
            <a:xfrm>
              <a:off x="5021280" y="1752480"/>
              <a:ext cx="19548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29320" y="1771560"/>
              <a:ext cx="52848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29960" y="182952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21200" y="1728720"/>
              <a:ext cx="189000" cy="16344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632760" y="2862360"/>
            <a:ext cx="741600" cy="446040"/>
            <a:chOff x="3632760" y="2862360"/>
            <a:chExt cx="741600" cy="446040"/>
          </a:xfrm>
        </p:grpSpPr>
        <p:sp>
          <p:nvSpPr>
            <p:cNvPr id="183" name=""/>
            <p:cNvSpPr/>
            <p:nvPr/>
          </p:nvSpPr>
          <p:spPr>
            <a:xfrm>
              <a:off x="4024080" y="2886120"/>
              <a:ext cx="19548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32120" y="2905200"/>
              <a:ext cx="52848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32760" y="29631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24000" y="2862360"/>
              <a:ext cx="189000" cy="16344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5601240" y="2862360"/>
            <a:ext cx="741600" cy="446040"/>
            <a:chOff x="5601240" y="2862360"/>
            <a:chExt cx="741600" cy="446040"/>
          </a:xfrm>
        </p:grpSpPr>
        <p:sp>
          <p:nvSpPr>
            <p:cNvPr id="188" name=""/>
            <p:cNvSpPr/>
            <p:nvPr/>
          </p:nvSpPr>
          <p:spPr>
            <a:xfrm>
              <a:off x="5992560" y="2886120"/>
              <a:ext cx="19512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00600" y="2905200"/>
              <a:ext cx="52812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01240" y="29631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92480" y="2862360"/>
              <a:ext cx="188640" cy="163440"/>
            </a:xfrm>
            <a:prstGeom prst="hexagon">
              <a:avLst>
                <a:gd name="adj" fmla="val 28855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869360" y="3151080"/>
            <a:ext cx="741600" cy="446040"/>
            <a:chOff x="4869360" y="3151080"/>
            <a:chExt cx="741600" cy="446040"/>
          </a:xfrm>
        </p:grpSpPr>
        <p:sp>
          <p:nvSpPr>
            <p:cNvPr id="193" name=""/>
            <p:cNvSpPr/>
            <p:nvPr/>
          </p:nvSpPr>
          <p:spPr>
            <a:xfrm>
              <a:off x="5260680" y="3174840"/>
              <a:ext cx="19512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68720" y="3193920"/>
              <a:ext cx="52812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69360" y="325188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160600" y="3151080"/>
              <a:ext cx="188640" cy="163440"/>
            </a:xfrm>
            <a:prstGeom prst="hexagon">
              <a:avLst>
                <a:gd name="adj" fmla="val 28855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5601240" y="4286160"/>
            <a:ext cx="741600" cy="446040"/>
            <a:chOff x="5601240" y="4286160"/>
            <a:chExt cx="741600" cy="446040"/>
          </a:xfrm>
        </p:grpSpPr>
        <p:sp>
          <p:nvSpPr>
            <p:cNvPr id="198" name=""/>
            <p:cNvSpPr/>
            <p:nvPr/>
          </p:nvSpPr>
          <p:spPr>
            <a:xfrm>
              <a:off x="5992560" y="4309920"/>
              <a:ext cx="19512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00600" y="4329000"/>
              <a:ext cx="52812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01240" y="43869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92480" y="4286160"/>
              <a:ext cx="188640" cy="163440"/>
            </a:xfrm>
            <a:prstGeom prst="hexagon">
              <a:avLst>
                <a:gd name="adj" fmla="val 28855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601240" y="4905360"/>
            <a:ext cx="741600" cy="446040"/>
            <a:chOff x="5601240" y="4905360"/>
            <a:chExt cx="741600" cy="446040"/>
          </a:xfrm>
        </p:grpSpPr>
        <p:sp>
          <p:nvSpPr>
            <p:cNvPr id="203" name=""/>
            <p:cNvSpPr/>
            <p:nvPr/>
          </p:nvSpPr>
          <p:spPr>
            <a:xfrm>
              <a:off x="5992560" y="4929120"/>
              <a:ext cx="19512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00600" y="4948200"/>
              <a:ext cx="52812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01240" y="50061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92480" y="4905360"/>
              <a:ext cx="188640" cy="163440"/>
            </a:xfrm>
            <a:prstGeom prst="hexagon">
              <a:avLst>
                <a:gd name="adj" fmla="val 28855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601240" y="5524560"/>
            <a:ext cx="741600" cy="446040"/>
            <a:chOff x="5601240" y="5524560"/>
            <a:chExt cx="741600" cy="446040"/>
          </a:xfrm>
        </p:grpSpPr>
        <p:sp>
          <p:nvSpPr>
            <p:cNvPr id="208" name=""/>
            <p:cNvSpPr/>
            <p:nvPr/>
          </p:nvSpPr>
          <p:spPr>
            <a:xfrm>
              <a:off x="5992560" y="5548320"/>
              <a:ext cx="19512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00600" y="5567400"/>
              <a:ext cx="52812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601240" y="56253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92480" y="5524560"/>
              <a:ext cx="188640" cy="163440"/>
            </a:xfrm>
            <a:prstGeom prst="hexagon">
              <a:avLst>
                <a:gd name="adj" fmla="val 28855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117400" y="4239720"/>
            <a:ext cx="946800" cy="544680"/>
            <a:chOff x="5117400" y="4239720"/>
            <a:chExt cx="946800" cy="544680"/>
          </a:xfrm>
        </p:grpSpPr>
        <p:sp>
          <p:nvSpPr>
            <p:cNvPr id="213" name=""/>
            <p:cNvSpPr/>
            <p:nvPr/>
          </p:nvSpPr>
          <p:spPr>
            <a:xfrm>
              <a:off x="5641920" y="4260960"/>
              <a:ext cx="422280" cy="3175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317520"/>
                <a:gd name="textAreaBottom" fmla="*/ 31752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117400" y="4239720"/>
              <a:ext cx="639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i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6143040" y="4036680"/>
            <a:ext cx="604440" cy="641160"/>
            <a:chOff x="6143040" y="4036680"/>
            <a:chExt cx="604440" cy="641160"/>
          </a:xfrm>
        </p:grpSpPr>
        <p:sp>
          <p:nvSpPr>
            <p:cNvPr id="216" name=""/>
            <p:cNvSpPr/>
            <p:nvPr/>
          </p:nvSpPr>
          <p:spPr>
            <a:xfrm flipH="1" rot="14452800">
              <a:off x="6277680" y="4257360"/>
              <a:ext cx="421920" cy="317520"/>
            </a:xfrm>
            <a:custGeom>
              <a:avLst/>
              <a:gdLst>
                <a:gd name="textAreaLeft" fmla="*/ 360 w 421920"/>
                <a:gd name="textAreaRight" fmla="*/ 422640 w 421920"/>
                <a:gd name="textAreaTop" fmla="*/ 0 h 317520"/>
                <a:gd name="textAreaBottom" fmla="*/ 31752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015675"/>
                  <a:lnTo>
                    <a:pt x="5909" y="1171"/>
                  </a:lnTo>
                  <a:arcTo wR="10800" hR="10800" stAng="-7015675" swAng="7015675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43040" y="4036680"/>
              <a:ext cx="60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atch_stri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5840280" y="1809720"/>
            <a:ext cx="2539800" cy="977760"/>
            <a:chOff x="5840280" y="1809720"/>
            <a:chExt cx="2539800" cy="97776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7464240" y="1809720"/>
              <a:ext cx="915840" cy="91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5840280" y="1809720"/>
              <a:ext cx="106668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6832440" y="2266560"/>
              <a:ext cx="608040" cy="253800"/>
            </a:xfrm>
            <a:prstGeom prst="rightArrow">
              <a:avLst>
                <a:gd name="adj1" fmla="val 50000"/>
                <a:gd name="adj2" fmla="val 59894"/>
              </a:avLst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222" name="" descr=""/>
          <p:cNvPicPr/>
          <p:nvPr/>
        </p:nvPicPr>
        <p:blipFill>
          <a:blip r:embed="rId3"/>
          <a:srcRect l="5071" t="0" r="5071" b="3597"/>
          <a:stretch/>
        </p:blipFill>
        <p:spPr>
          <a:xfrm>
            <a:off x="239760" y="1319040"/>
            <a:ext cx="4776840" cy="54118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lycolysis summary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79600" y="1220760"/>
            <a:ext cx="2849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endergonic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nvest some ATP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80320" y="3102120"/>
            <a:ext cx="3268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exergonic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harvest a little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ATP &amp; a little NADH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6900840" y="2219400"/>
            <a:ext cx="922320" cy="80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5081400" y="5443560"/>
            <a:ext cx="1413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yield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2 ATP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2 NADH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04080" y="4589640"/>
            <a:ext cx="1195200" cy="1041120"/>
          </a:xfrm>
          <a:prstGeom prst="wedgeEllipseCallout">
            <a:avLst>
              <a:gd name="adj1" fmla="val 47342"/>
              <a:gd name="adj2" fmla="val 76828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like $$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n th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bank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17440" y="1379520"/>
            <a:ext cx="4808520" cy="1795320"/>
          </a:xfrm>
          <a:prstGeom prst="rect">
            <a:avLst/>
          </a:prstGeom>
          <a:noFill/>
          <a:ln w="5724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7440" y="3267000"/>
            <a:ext cx="4808520" cy="2149560"/>
          </a:xfrm>
          <a:prstGeom prst="rect">
            <a:avLst/>
          </a:prstGeom>
          <a:noFill/>
          <a:ln w="5724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17440" y="5506920"/>
            <a:ext cx="4808520" cy="1197000"/>
          </a:xfrm>
          <a:prstGeom prst="rect">
            <a:avLst/>
          </a:prstGeom>
          <a:noFill/>
          <a:ln w="5724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7226280" y="4602240"/>
            <a:ext cx="1839960" cy="21542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506760" y="3448080"/>
            <a:ext cx="1504800" cy="98568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1160" y="1433520"/>
            <a:ext cx="3321000" cy="281160"/>
          </a:xfrm>
          <a:prstGeom prst="rect">
            <a:avLst/>
          </a:prstGeom>
          <a:solidFill>
            <a:srgbClr val="eefb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840" y="1432440"/>
            <a:ext cx="2585880" cy="243720"/>
          </a:xfrm>
          <a:prstGeom prst="rect">
            <a:avLst/>
          </a:prstGeom>
          <a:solidFill>
            <a:srgbClr val="eefb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NERGY INVESTMEN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2360" y="3324240"/>
            <a:ext cx="2559240" cy="263520"/>
          </a:xfrm>
          <a:prstGeom prst="rect">
            <a:avLst/>
          </a:prstGeom>
          <a:solidFill>
            <a:srgbClr val="d1ec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2840" y="3343680"/>
            <a:ext cx="2585880" cy="243720"/>
          </a:xfrm>
          <a:prstGeom prst="rect">
            <a:avLst/>
          </a:prstGeom>
          <a:solidFill>
            <a:srgbClr val="d1ec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NERGY PAYOFF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354400" y="3004200"/>
            <a:ext cx="979200" cy="5209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3P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8f0f"/>
                </a:solidFill>
                <a:latin typeface="Arial"/>
              </a:rPr>
              <a:t>C-C-C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1440" y="5560920"/>
            <a:ext cx="2603520" cy="244440"/>
          </a:xfrm>
          <a:prstGeom prst="rect">
            <a:avLst/>
          </a:prstGeom>
          <a:solidFill>
            <a:srgbClr val="94d0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2840" y="5592960"/>
            <a:ext cx="1271520" cy="243720"/>
          </a:xfrm>
          <a:prstGeom prst="rect">
            <a:avLst/>
          </a:prstGeom>
          <a:solidFill>
            <a:srgbClr val="94d0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NET YIELD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atch_stri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54160" y="1951200"/>
            <a:ext cx="1033200" cy="24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rcRect l="23628" t="7504" r="0" b="6000"/>
          <a:stretch/>
        </p:blipFill>
        <p:spPr>
          <a:xfrm>
            <a:off x="2479680" y="1386000"/>
            <a:ext cx="6424560" cy="54561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5006520" y="5700600"/>
            <a:ext cx="1274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17160" y="36878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644360" y="57452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62640" y="472428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,5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62520" y="2136600"/>
            <a:ext cx="32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949840" y="570060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31240" y="1517760"/>
            <a:ext cx="60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39840" y="1889280"/>
            <a:ext cx="834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hexokin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48840" y="2963880"/>
            <a:ext cx="1221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hosphogluco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isomer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16800" y="3870360"/>
            <a:ext cx="1552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hosphofructokin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57080" y="5192640"/>
            <a:ext cx="1271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yceraldehyde 3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phosphate (G3P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61920" y="5192640"/>
            <a:ext cx="132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hydroxyaceton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sph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39560" y="2506680"/>
            <a:ext cx="155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ucose 6-phosph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88440" y="3459240"/>
            <a:ext cx="1594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uctose 6-phosph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57400" y="4422600"/>
            <a:ext cx="19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uctose 1,6-bisphosph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16040" y="490680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isomer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68800" y="5973840"/>
            <a:ext cx="11300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glyceraldehyd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3-phosph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dehydrogen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78080" y="4657680"/>
            <a:ext cx="61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aldol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91800" y="6431040"/>
            <a:ext cx="181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,3-Bisphosphoglycer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PG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770360" y="6416640"/>
            <a:ext cx="18129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,3-Bisphosphoglycer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PG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18960" y="17175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17160" y="27320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06440" y="17971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05280" y="4118040"/>
            <a:ext cx="32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04920" y="378000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946840" y="6010200"/>
            <a:ext cx="43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972760" y="570060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1640" y="6002280"/>
            <a:ext cx="43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65280" y="5715000"/>
            <a:ext cx="1274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28320" y="486108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24000" y="51354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329280" y="51354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71000" y="5394240"/>
            <a:ext cx="677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605280" y="60498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12360" y="60498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143120" y="653724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21840" y="65372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43680" y="653724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444080" y="60498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998400" y="631188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O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149960" y="50594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43120" y="551664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521840" y="55468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843680" y="55468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444080" y="50594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87240" y="528804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O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752600" y="399240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07640" y="39924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510400" y="39924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10600" y="40989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90840" y="399240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683760" y="39924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53000" y="39924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598160" y="14778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713360" y="30211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390080" y="31845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85800" y="300204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49960" y="47847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824240" y="3154320"/>
            <a:ext cx="677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369560" y="3032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203600" y="215280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897680" y="21636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74040" y="22939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598160" y="21636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066800" y="1325520"/>
            <a:ext cx="677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68400" y="1384200"/>
            <a:ext cx="816120" cy="5397480"/>
          </a:xfrm>
          <a:prstGeom prst="rect">
            <a:avLst/>
          </a:prstGeom>
          <a:solidFill>
            <a:srgbClr val="df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74640" y="49068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797560" y="48610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93800" y="1419120"/>
            <a:ext cx="1352880" cy="544680"/>
          </a:xfrm>
          <a:prstGeom prst="rect">
            <a:avLst/>
          </a:prstGeom>
          <a:solidFill>
            <a:srgbClr val="df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93800" y="2671920"/>
            <a:ext cx="1525680" cy="725400"/>
          </a:xfrm>
          <a:prstGeom prst="rect">
            <a:avLst/>
          </a:prstGeom>
          <a:solidFill>
            <a:srgbClr val="df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st half of glycolysis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(5 reactions)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51280" y="1371240"/>
            <a:ext cx="3125160" cy="48996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lucose “priming”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52280" y="1987560"/>
            <a:ext cx="3463920" cy="29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4520" indent="-2300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get glucose ready to spli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689040" indent="-2304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hosphorylate glucose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689040" indent="-2304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molecular rearrangemen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344520" indent="-2300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plit destabilized gluco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748040" y="3736800"/>
            <a:ext cx="1746360" cy="49068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038560" y="5097600"/>
            <a:ext cx="1746360" cy="55404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rcRect l="28465" t="70504" r="9112" b="13504"/>
          <a:stretch/>
        </p:blipFill>
        <p:spPr>
          <a:xfrm>
            <a:off x="3878280" y="1488960"/>
            <a:ext cx="5251320" cy="10098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6282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2nd half of glycolysis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(5 reactions)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 flipH="1">
            <a:off x="110880" y="54640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 flipH="1">
            <a:off x="1569240" y="6026040"/>
            <a:ext cx="1957320" cy="770040"/>
          </a:xfrm>
          <a:prstGeom prst="wedgeEllipseCallout">
            <a:avLst>
              <a:gd name="adj1" fmla="val 78138"/>
              <a:gd name="adj2" fmla="val -7969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Comic Sans MS"/>
              </a:rPr>
              <a:t>Payola</a:t>
            </a:r>
            <a:r>
              <a:rPr b="1" i="1" lang="en-US" sz="16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1600"/>
            </a:br>
            <a:r>
              <a:rPr b="1" lang="en-US" sz="1600" spc="-1" strike="noStrike">
                <a:solidFill>
                  <a:srgbClr val="0f116a"/>
                </a:solidFill>
                <a:latin typeface="Comic Sans MS"/>
              </a:rPr>
              <a:t>Finally some </a:t>
            </a:r>
            <a:br>
              <a:rPr sz="1600"/>
            </a:br>
            <a:r>
              <a:rPr b="1" lang="en-US" sz="1600" spc="-1" strike="noStrike">
                <a:solidFill>
                  <a:srgbClr val="0f116a"/>
                </a:solidFill>
                <a:latin typeface="Comic Sans MS"/>
              </a:rPr>
              <a:t>ATP</a:t>
            </a:r>
            <a:r>
              <a:rPr b="1" i="1" lang="en-US" sz="1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4800" y="1440000"/>
            <a:ext cx="4035240" cy="41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NADH productio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3P donates H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oxidize sugar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reduce NAD</a:t>
            </a:r>
            <a:r>
              <a:rPr b="1" lang="en-US" sz="20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ADH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TP productio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3P </a:t>
            </a:r>
            <a:r>
              <a:rPr b="1" lang="en-US" sz="2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pyruvat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EP sugar donates P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ADP </a:t>
            </a:r>
            <a:r>
              <a:rPr b="1" lang="en-US" sz="2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3"/>
          <a:srcRect l="28690" t="15748" r="9000" b="15000"/>
          <a:stretch/>
        </p:blipFill>
        <p:spPr>
          <a:xfrm>
            <a:off x="3879720" y="2411280"/>
            <a:ext cx="5240520" cy="43675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5645880" y="24368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645880" y="35528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390200" y="4844880"/>
            <a:ext cx="27792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645880" y="46958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608080" y="5826240"/>
            <a:ext cx="1713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084560" y="246204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09760" y="284328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82840" y="3106800"/>
            <a:ext cx="1460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-Phosphoglycer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PG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983200" y="3106800"/>
            <a:ext cx="1460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-Phosphoglycer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PG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82840" y="4237200"/>
            <a:ext cx="1460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-Phosphoglycer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PG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83200" y="4237200"/>
            <a:ext cx="1460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-Phosphoglycer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PG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05080" y="5357880"/>
            <a:ext cx="1603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sphoenolpyruv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PEP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905440" y="5357880"/>
            <a:ext cx="1603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sphoenolpyruv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PEP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609080" y="6513480"/>
            <a:ext cx="6469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yruv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32960" y="6513480"/>
            <a:ext cx="6469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yruv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02200" y="2598840"/>
            <a:ext cx="1315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hosphoglycer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kin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95920" y="3747960"/>
            <a:ext cx="17492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hosphoglyceromut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83800" y="4879800"/>
            <a:ext cx="570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enol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80680" y="6022800"/>
            <a:ext cx="11574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yruvate kin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988320" y="246204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000560" y="281772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88320" y="586584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000560" y="620712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84560" y="586584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096800" y="623412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49280" y="4862520"/>
            <a:ext cx="27792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970040" y="4341960"/>
            <a:ext cx="677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122680" y="647532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118000" y="327492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165160" y="5713560"/>
            <a:ext cx="3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r>
              <a:rPr b="1" lang="en-US" sz="12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423640" y="62467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129520" y="59720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727840" y="411336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889760" y="41133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966800" y="304632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O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120880" y="2543040"/>
            <a:ext cx="3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r>
              <a:rPr b="1" lang="en-US" sz="12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120880" y="3610080"/>
            <a:ext cx="3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r>
              <a:rPr b="1" lang="en-US" sz="12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165160" y="4646520"/>
            <a:ext cx="3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r>
              <a:rPr b="1" lang="en-US" sz="12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118360" y="2771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129520" y="38847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129520" y="49053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129520" y="41133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129520" y="51800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118360" y="6246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823240" y="32749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727840" y="518004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575920" y="33051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423640" y="38386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423640" y="41133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423640" y="49053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423640" y="51339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23640" y="59720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122680" y="540864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042080" y="180972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934320" y="2119320"/>
            <a:ext cx="43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922080" y="180972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029120" y="2111400"/>
            <a:ext cx="43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32000" y="1371240"/>
            <a:ext cx="2610000" cy="48996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Energy Harvest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64480" y="1153080"/>
            <a:ext cx="979200" cy="5209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3P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8f0f"/>
                </a:solidFill>
                <a:latin typeface="Arial"/>
              </a:rPr>
              <a:t>C-C-C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472520" y="1523880"/>
            <a:ext cx="1633320" cy="943200"/>
          </a:xfrm>
          <a:prstGeom prst="rect">
            <a:avLst/>
          </a:prstGeom>
          <a:solidFill>
            <a:srgbClr val="df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13080" y="1792440"/>
            <a:ext cx="1274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12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271840" y="1806480"/>
            <a:ext cx="1274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12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45880" y="19112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ubstrate-level Phosphoryl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rcRect l="1122" t="19504" r="54001" b="15000"/>
          <a:stretch/>
        </p:blipFill>
        <p:spPr>
          <a:xfrm>
            <a:off x="4267080" y="4416480"/>
            <a:ext cx="2151360" cy="23526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155520" y="2735280"/>
            <a:ext cx="3352680" cy="17388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 is transferred from PEP to ADP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1" marL="339840" indent="-225360">
              <a:lnSpc>
                <a:spcPct val="100000"/>
              </a:lnSpc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kinase enzyme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1" marL="339840" indent="-225360">
              <a:lnSpc>
                <a:spcPct val="100000"/>
              </a:lnSpc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ADP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ATP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 flipH="1">
            <a:off x="1793160" y="5345280"/>
            <a:ext cx="2089080" cy="1398600"/>
          </a:xfrm>
          <a:prstGeom prst="wedgeEllipseCallout">
            <a:avLst>
              <a:gd name="adj1" fmla="val 85254"/>
              <a:gd name="adj2" fmla="val -1027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 get it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PO</a:t>
            </a:r>
            <a:r>
              <a:rPr b="1" lang="en-US" sz="1800" spc="-1" strike="noStrike" baseline="-25000">
                <a:solidFill>
                  <a:srgbClr val="0f116a"/>
                </a:solidFill>
                <a:latin typeface="Comic Sans MS"/>
              </a:rPr>
              <a:t>4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cam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directly from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substrate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3"/>
          <a:srcRect l="45001" t="19504" r="0" b="15000"/>
          <a:stretch/>
        </p:blipFill>
        <p:spPr>
          <a:xfrm>
            <a:off x="6369120" y="4416480"/>
            <a:ext cx="2633760" cy="23526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5943600" y="50292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cc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27400" y="5477040"/>
            <a:ext cx="2195640" cy="1204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127400" y="4603680"/>
            <a:ext cx="2195640" cy="781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5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903840" y="2208240"/>
            <a:ext cx="5240160" cy="2165400"/>
            <a:chOff x="3903840" y="2208240"/>
            <a:chExt cx="5240160" cy="2165400"/>
          </a:xfrm>
        </p:grpSpPr>
        <p:pic>
          <p:nvPicPr>
            <p:cNvPr id="397" name="" descr=""/>
            <p:cNvPicPr/>
            <p:nvPr/>
          </p:nvPicPr>
          <p:blipFill>
            <a:blip r:embed="rId4"/>
            <a:srcRect l="28690" t="50701" r="9000" b="15000"/>
            <a:stretch/>
          </p:blipFill>
          <p:spPr>
            <a:xfrm>
              <a:off x="3903840" y="2208240"/>
              <a:ext cx="5240160" cy="21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4413600" y="2439720"/>
              <a:ext cx="27792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669280" y="229068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31480" y="3421080"/>
              <a:ext cx="1713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128840" y="2952720"/>
              <a:ext cx="16038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osphoenolpyruvat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PEP)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929200" y="2952720"/>
              <a:ext cx="16038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osphoenolpyruvat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PEP)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632480" y="4108320"/>
              <a:ext cx="6469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yruvat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156720" y="4108320"/>
              <a:ext cx="6469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yruvat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07200" y="2474640"/>
              <a:ext cx="5706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enolas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104440" y="3617640"/>
              <a:ext cx="11574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pyruvate kinas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012080" y="3460680"/>
              <a:ext cx="3222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024320" y="3801960"/>
              <a:ext cx="3056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08320" y="3460680"/>
              <a:ext cx="3222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20560" y="3828960"/>
              <a:ext cx="3056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772680" y="2457360"/>
              <a:ext cx="27792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146080" y="4070160"/>
              <a:ext cx="4489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H</a:t>
              </a:r>
              <a:r>
                <a:rPr b="1" lang="en-US" sz="1200" spc="-1" strike="noStrike" baseline="-25000">
                  <a:solidFill>
                    <a:srgbClr val="40458c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188920" y="3308400"/>
              <a:ext cx="32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r>
                <a:rPr b="1" lang="en-US" sz="1200" spc="-1" strike="noStrike" baseline="30000">
                  <a:solidFill>
                    <a:srgbClr val="40458c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447040" y="38415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153280" y="35668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188920" y="2241360"/>
              <a:ext cx="32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r>
                <a:rPr b="1" lang="en-US" sz="1200" spc="-1" strike="noStrike" baseline="30000">
                  <a:solidFill>
                    <a:srgbClr val="40458c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153280" y="25002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153280" y="27748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142120" y="38415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751240" y="27748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447040" y="250020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447040" y="272880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447040" y="356688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146080" y="3003480"/>
              <a:ext cx="4489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H</a:t>
              </a:r>
              <a:r>
                <a:rPr b="1" lang="en-US" sz="1200" spc="-1" strike="noStrike" baseline="-25000">
                  <a:solidFill>
                    <a:srgbClr val="40458c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341600" y="2257200"/>
              <a:ext cx="2957400" cy="681120"/>
            </a:xfrm>
            <a:prstGeom prst="rect">
              <a:avLst/>
            </a:prstGeom>
            <a:solidFill>
              <a:srgbClr val="dff3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721692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n the last steps of glycolysis, where did the P come from to make ATP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the sugar substrate (PEP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654280" y="4083120"/>
            <a:ext cx="1504800" cy="98568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7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imberly Area School District</cp:lastModifiedBy>
  <cp:lastPrinted>2007-01-04T04:15:12Z</cp:lastPrinted>
  <dcterms:modified xsi:type="dcterms:W3CDTF">2008-11-07T14:59:28Z</dcterms:modified>
  <cp:revision>92</cp:revision>
  <dc:subject/>
  <dc:title>Chapter  9.  Cellular Respiration  STAGE 1: Glycolysis</dc:title>
</cp:coreProperties>
</file>